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gif" ContentType="image/gi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14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image5.wmf" ContentType="image/x-wmf"/>
  <Override PartName="/ppt/media/image10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1A6D-8486-44BA-854F-829C9A46F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0047-5A1D-450E-838C-830F9AD1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261D-C232-42E6-B332-4A6E776CE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9AF3-12CC-47B4-873B-DEB6D5C78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9863-A6A0-4A6B-9DC5-E7955E39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442E-93AC-4774-8C4C-250E75BC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7EC2-8AC8-4E56-96CC-702EF947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6764-F83E-4DF0-9041-7F898878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8998-FB3E-4CFA-BE8F-5BAB9F39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0A92-C53F-4587-AF7A-8E2878CC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721F-F997-423E-A6E3-38ADFE6A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628F-2687-4C84-B9FB-85BCA521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C181-B9DB-44DB-A488-01E8E7F0EB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andeianet.com.br/loja_produtodetalhe.asp?id=144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andeianet.com.br/loja_produtodetalhe.asp?id=144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2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59280" y="1628640"/>
            <a:ext cx="1008000" cy="1440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635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ensamento e Vid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3" name="" descr="Saiba mais sobre Pensamento e Vid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1568520"/>
            <a:ext cx="952560" cy="1428840"/>
          </a:xfrm>
          <a:prstGeom prst="rect">
            <a:avLst/>
          </a:prstGeom>
          <a:ln w="0">
            <a:noFill/>
          </a:ln>
          <a:effectLst>
            <a:outerShdw dist="153009" dir="2493982" blurRad="0" rotWithShape="0">
              <a:srgbClr val="ffe701">
                <a:alpha val="50000"/>
              </a:srgbClr>
            </a:outerShdw>
          </a:effectLst>
        </p:spPr>
      </p:pic>
      <p:sp>
        <p:nvSpPr>
          <p:cNvPr id="44" name=""/>
          <p:cNvSpPr/>
          <p:nvPr/>
        </p:nvSpPr>
        <p:spPr>
          <a:xfrm>
            <a:off x="4859280" y="5229360"/>
            <a:ext cx="3457800" cy="1368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e7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ccffff"/>
                </a:solidFill>
                <a:latin typeface="Arial"/>
              </a:rPr>
              <a:t>cooperaçã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5856600">
            <a:off x="103680" y="191160"/>
            <a:ext cx="73800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5856600">
            <a:off x="247680" y="534240"/>
            <a:ext cx="73836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17080" y="5589720"/>
            <a:ext cx="792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º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358920"/>
            <a:ext cx="9144000" cy="1125360"/>
          </a:xfrm>
          <a:prstGeom prst="rect">
            <a:avLst/>
          </a:prstGeom>
          <a:solidFill>
            <a:srgbClr val="b2b2b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838080" indent="-838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OOPERAÇÃO NO ESTADO INDIVIDUAL                                          é isso   ..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908000" y="4869000"/>
            <a:ext cx="5400720" cy="1081080"/>
            <a:chOff x="1908000" y="4869000"/>
            <a:chExt cx="5400720" cy="1081080"/>
          </a:xfrm>
        </p:grpSpPr>
        <p:sp>
          <p:nvSpPr>
            <p:cNvPr id="207" name="_s58376"/>
            <p:cNvSpPr/>
            <p:nvPr/>
          </p:nvSpPr>
          <p:spPr>
            <a:xfrm>
              <a:off x="1908000" y="4869000"/>
              <a:ext cx="5400720" cy="1081080"/>
            </a:xfrm>
            <a:prstGeom prst="roundRect">
              <a:avLst>
                <a:gd name="adj" fmla="val 19574"/>
              </a:avLst>
            </a:prstGeom>
            <a:solidFill>
              <a:srgbClr val="ffe701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" rIns="468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QUEM AJUDA É AJUDADO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EGURA FORMULA DE AJUSTE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OS PROCESSOS DA EVOLUÇÃ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3068640" y="2421000"/>
            <a:ext cx="1071720" cy="2295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56" y="666"/>
                  <a:pt x="3712" y="5080"/>
                  <a:pt x="3712" y="10800"/>
                </a:cubicBezTo>
                <a:cubicBezTo>
                  <a:pt x="3712" y="16520"/>
                  <a:pt x="12656" y="2093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rot="21591000">
            <a:off x="4932000" y="2420640"/>
            <a:ext cx="1081080" cy="2292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194" y="859"/>
                  <a:pt x="4788" y="5080"/>
                  <a:pt x="4788" y="10800"/>
                </a:cubicBezTo>
                <a:cubicBezTo>
                  <a:pt x="4788" y="16520"/>
                  <a:pt x="13194" y="2074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832360" y="3067200"/>
            <a:ext cx="255600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EDIÊNC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TRUTIVA                                                                                 AOS IMPOSITIV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  FR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1280" y="2895480"/>
            <a:ext cx="2520720" cy="16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ORRO                             ÀS PRIVAÇÕES DA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TAGUAR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3933720"/>
            <a:ext cx="1795320" cy="17528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 flipH="1">
            <a:off x="8027640" y="2924280"/>
            <a:ext cx="1073160" cy="1512720"/>
          </a:xfrm>
          <a:prstGeom prst="rect">
            <a:avLst/>
          </a:prstGeom>
          <a:ln w="0">
            <a:noFill/>
          </a:ln>
        </p:spPr>
      </p:pic>
      <p:grpSp>
        <p:nvGrpSpPr>
          <p:cNvPr id="214" name=""/>
          <p:cNvGrpSpPr/>
          <p:nvPr/>
        </p:nvGrpSpPr>
        <p:grpSpPr>
          <a:xfrm>
            <a:off x="4067280" y="3645000"/>
            <a:ext cx="915480" cy="225360"/>
            <a:chOff x="4067280" y="3645000"/>
            <a:chExt cx="915480" cy="225360"/>
          </a:xfrm>
        </p:grpSpPr>
        <p:sp>
          <p:nvSpPr>
            <p:cNvPr id="215" name="_s58392"/>
            <p:cNvSpPr/>
            <p:nvPr/>
          </p:nvSpPr>
          <p:spPr>
            <a:xfrm>
              <a:off x="4067280" y="3645000"/>
              <a:ext cx="915480" cy="225360"/>
            </a:xfrm>
            <a:prstGeom prst="roundRect">
              <a:avLst>
                <a:gd name="adj" fmla="val 16667"/>
              </a:avLst>
            </a:prstGeom>
            <a:solidFill>
              <a:srgbClr val="66ccff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" rIns="9360" tIns="4680" bIns="46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Vont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 rot="5856600">
            <a:off x="103680" y="191160"/>
            <a:ext cx="73800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5856600">
            <a:off x="247680" y="534240"/>
            <a:ext cx="73836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317080" y="5589720"/>
            <a:ext cx="792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º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6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6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mph" presetID="32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326" dur="1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animClr clrSpc="rgb">
                                      <p:cBhvr>
                                        <p:cTn id="327" dur="1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set>
                                      <p:cBhvr>
                                        <p:cTn id="328" dur="1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500"/>
                            </p:stCondLst>
                            <p:childTnLst>
                              <p:par>
                                <p:cTn id="335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6" dur="500" fill="hold"/>
                                        <p:tgtEl>
                                          <p:spTgt spid="2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37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33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9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340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 rot="5856600">
            <a:off x="1296000" y="2208960"/>
            <a:ext cx="73800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5856600">
            <a:off x="1143360" y="3123360"/>
            <a:ext cx="73800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5856600">
            <a:off x="1548360" y="2993040"/>
            <a:ext cx="73836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5856600">
            <a:off x="2005560" y="3145320"/>
            <a:ext cx="73836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5856600">
            <a:off x="1981800" y="3450240"/>
            <a:ext cx="73836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5856600">
            <a:off x="1524600" y="3602520"/>
            <a:ext cx="73836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5856600">
            <a:off x="1143000" y="3428280"/>
            <a:ext cx="73836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5856600">
            <a:off x="1067400" y="4570920"/>
            <a:ext cx="73836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5856600">
            <a:off x="1472040" y="4151880"/>
            <a:ext cx="73836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5856600">
            <a:off x="1929240" y="4593240"/>
            <a:ext cx="73836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5856600">
            <a:off x="1905480" y="4898160"/>
            <a:ext cx="73800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5856600">
            <a:off x="1448280" y="5050440"/>
            <a:ext cx="73836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856600">
            <a:off x="1067400" y="4875840"/>
            <a:ext cx="73836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856600">
            <a:off x="1676880" y="5028120"/>
            <a:ext cx="73836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856600">
            <a:off x="2081520" y="4898160"/>
            <a:ext cx="73800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5856600">
            <a:off x="2538360" y="5050800"/>
            <a:ext cx="73836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5856600">
            <a:off x="2514960" y="5355360"/>
            <a:ext cx="73800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5856600">
            <a:off x="2057400" y="5508000"/>
            <a:ext cx="73836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5856600">
            <a:off x="1676880" y="5333040"/>
            <a:ext cx="73836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856600">
            <a:off x="2591280" y="5082120"/>
            <a:ext cx="73836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5856600">
            <a:off x="2995920" y="4952160"/>
            <a:ext cx="73800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5856600">
            <a:off x="3452760" y="5104800"/>
            <a:ext cx="73836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5856600">
            <a:off x="3429360" y="5409360"/>
            <a:ext cx="73800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5856600">
            <a:off x="2971800" y="5562000"/>
            <a:ext cx="73836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5856600">
            <a:off x="2591280" y="5387040"/>
            <a:ext cx="73800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5856600">
            <a:off x="2743200" y="4396680"/>
            <a:ext cx="73836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5856600">
            <a:off x="3148560" y="4266360"/>
            <a:ext cx="73800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5856600">
            <a:off x="3605760" y="4418640"/>
            <a:ext cx="73836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5856600">
            <a:off x="3582000" y="4723560"/>
            <a:ext cx="73800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5856600">
            <a:off x="3124800" y="4875840"/>
            <a:ext cx="73836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5856600">
            <a:off x="2743560" y="4701240"/>
            <a:ext cx="73800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5856600">
            <a:off x="360" y="5158440"/>
            <a:ext cx="73800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5856600">
            <a:off x="405360" y="5028120"/>
            <a:ext cx="73836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5856600">
            <a:off x="914400" y="5028480"/>
            <a:ext cx="73836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5856600">
            <a:off x="838800" y="5485320"/>
            <a:ext cx="73836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5856600">
            <a:off x="381600" y="5637960"/>
            <a:ext cx="73800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856600">
            <a:off x="360" y="5463360"/>
            <a:ext cx="73800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5856600">
            <a:off x="0" y="5790600"/>
            <a:ext cx="73836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5856600">
            <a:off x="405360" y="5659920"/>
            <a:ext cx="73836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5856600">
            <a:off x="3261240" y="5812560"/>
            <a:ext cx="73800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5856600">
            <a:off x="3548520" y="6117120"/>
            <a:ext cx="73836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rot="5856600">
            <a:off x="3980160" y="6269760"/>
            <a:ext cx="73800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5856600">
            <a:off x="360" y="6095160"/>
            <a:ext cx="73800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 rot="12232800">
            <a:off x="430200" y="331200"/>
            <a:ext cx="1079640" cy="72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260" y="524"/>
                  <a:pt x="2919" y="5080"/>
                  <a:pt x="2919" y="10800"/>
                </a:cubicBezTo>
                <a:cubicBezTo>
                  <a:pt x="2919" y="16520"/>
                  <a:pt x="12260" y="2107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9399600">
            <a:off x="7379640" y="475920"/>
            <a:ext cx="982440" cy="565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260" y="524"/>
                  <a:pt x="2919" y="5080"/>
                  <a:pt x="2919" y="10800"/>
                </a:cubicBezTo>
                <a:cubicBezTo>
                  <a:pt x="2919" y="16520"/>
                  <a:pt x="12260" y="2107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333360"/>
            <a:ext cx="9144000" cy="936720"/>
          </a:xfrm>
          <a:prstGeom prst="rect">
            <a:avLst/>
          </a:prstGeom>
          <a:solidFill>
            <a:srgbClr val="b2b2b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OOPERAÇÃO no UNIVER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5856600">
            <a:off x="7221960" y="3209040"/>
            <a:ext cx="73800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rot="5856600">
            <a:off x="7437960" y="3425040"/>
            <a:ext cx="73800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5856600">
            <a:off x="7653960" y="3640680"/>
            <a:ext cx="73836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5856600">
            <a:off x="7869600" y="3856680"/>
            <a:ext cx="73800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856600">
            <a:off x="8085600" y="4072680"/>
            <a:ext cx="73800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5856600">
            <a:off x="8301600" y="4494960"/>
            <a:ext cx="73800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5856600">
            <a:off x="8312760" y="4926600"/>
            <a:ext cx="73836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5856600">
            <a:off x="8312760" y="3643920"/>
            <a:ext cx="73836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5856600">
            <a:off x="8457120" y="5591880"/>
            <a:ext cx="73800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95640" y="4149720"/>
            <a:ext cx="4572000" cy="15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o send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ma cadeia de vi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 se entrosam                              na Grande V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979640" y="2297160"/>
            <a:ext cx="4572000" cy="7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 Glória Divin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às balizas subatômicas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384720" y="3233880"/>
            <a:ext cx="3419280" cy="7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 Univer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ode ser definido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5856600">
            <a:off x="1511280" y="2424960"/>
            <a:ext cx="73836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5856600">
            <a:off x="1727640" y="2640600"/>
            <a:ext cx="73836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5856600">
            <a:off x="1688040" y="4367880"/>
            <a:ext cx="73800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5856600">
            <a:off x="1820880" y="3818880"/>
            <a:ext cx="73836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5856600">
            <a:off x="8384040" y="5142600"/>
            <a:ext cx="73800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5856600">
            <a:off x="4413240" y="6241320"/>
            <a:ext cx="73836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856600">
            <a:off x="4845600" y="6240960"/>
            <a:ext cx="73836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5856600">
            <a:off x="5276880" y="6241320"/>
            <a:ext cx="73836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5856600">
            <a:off x="5709240" y="6240960"/>
            <a:ext cx="73836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5856600">
            <a:off x="6140880" y="6240960"/>
            <a:ext cx="73836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5856600">
            <a:off x="6501240" y="6240960"/>
            <a:ext cx="73836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5856600">
            <a:off x="6861600" y="6168240"/>
            <a:ext cx="73800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5856600">
            <a:off x="7221960" y="6168240"/>
            <a:ext cx="73800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5856600">
            <a:off x="7580880" y="6025320"/>
            <a:ext cx="73800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5856600">
            <a:off x="8024760" y="5880960"/>
            <a:ext cx="73836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5856600">
            <a:off x="5924880" y="5952240"/>
            <a:ext cx="73800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5856600">
            <a:off x="103680" y="191160"/>
            <a:ext cx="73800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5856600">
            <a:off x="247680" y="534240"/>
            <a:ext cx="73836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317080" y="5589720"/>
            <a:ext cx="792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º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346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7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34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350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352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354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356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7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358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9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36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1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362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3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36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36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36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370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37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3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37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376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378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9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38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1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382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3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38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386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7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388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9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390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1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392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39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5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396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7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39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400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1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40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3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404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5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406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7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408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9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410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1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412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414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5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416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7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418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9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420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1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422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424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5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426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7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428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9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430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1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432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3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434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5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436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7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438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9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440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1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442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3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444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446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448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450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1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452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454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456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458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460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462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464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466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7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46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470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47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3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474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5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476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7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478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9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480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1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482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3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484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059280" y="1628640"/>
            <a:ext cx="1008000" cy="1440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635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ensamento e Vid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98" name="" descr="Saiba mais sobre Pensamento e Vid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1568520"/>
            <a:ext cx="952560" cy="1428840"/>
          </a:xfrm>
          <a:prstGeom prst="rect">
            <a:avLst/>
          </a:prstGeom>
          <a:ln w="0">
            <a:noFill/>
          </a:ln>
          <a:effectLst>
            <a:outerShdw dist="153009" dir="2493982" blurRad="0" rotWithShape="0">
              <a:srgbClr val="ffe701">
                <a:alpha val="50000"/>
              </a:srgbClr>
            </a:outerShdw>
          </a:effectLst>
        </p:spPr>
      </p:pic>
      <p:sp>
        <p:nvSpPr>
          <p:cNvPr id="299" name=""/>
          <p:cNvSpPr/>
          <p:nvPr/>
        </p:nvSpPr>
        <p:spPr>
          <a:xfrm>
            <a:off x="3708360" y="3429000"/>
            <a:ext cx="3457440" cy="1368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e7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ccffff"/>
                </a:solidFill>
                <a:latin typeface="Arial"/>
              </a:rPr>
              <a:t>cooperaçã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588000" y="5646600"/>
            <a:ext cx="230508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spAutoFit/>
          </a:bodyPr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i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856600">
            <a:off x="103680" y="191160"/>
            <a:ext cx="73800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5856600">
            <a:off x="247680" y="534240"/>
            <a:ext cx="73836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17080" y="5589720"/>
            <a:ext cx="792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º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490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492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 rot="20307000">
            <a:off x="2987280" y="1699920"/>
            <a:ext cx="4438800" cy="129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dfffd"/>
                </a:solidFill>
                <a:latin typeface="Arial"/>
              </a:rPr>
              <a:t>Cooperaçã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dfffd"/>
              </a:solidFill>
              <a:latin typeface="Arial"/>
              <a:ea typeface="Arial"/>
            </a:endParaRPr>
          </a:p>
        </p:txBody>
      </p:sp>
      <p:sp>
        <p:nvSpPr>
          <p:cNvPr id="49" name=""/>
          <p:cNvSpPr/>
          <p:nvPr/>
        </p:nvSpPr>
        <p:spPr>
          <a:xfrm rot="5856600">
            <a:off x="1296000" y="1416600"/>
            <a:ext cx="73836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856600">
            <a:off x="1143000" y="2331360"/>
            <a:ext cx="73836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5856600">
            <a:off x="1548360" y="2201040"/>
            <a:ext cx="73800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5856600">
            <a:off x="2005560" y="2353320"/>
            <a:ext cx="73800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856600">
            <a:off x="1981800" y="2658240"/>
            <a:ext cx="73800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5856600">
            <a:off x="1524600" y="2810520"/>
            <a:ext cx="73800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5856600">
            <a:off x="1143360" y="2635920"/>
            <a:ext cx="73800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856600">
            <a:off x="1067400" y="3778920"/>
            <a:ext cx="73800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5856600">
            <a:off x="1472040" y="3359880"/>
            <a:ext cx="73800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5856600">
            <a:off x="1929240" y="3801240"/>
            <a:ext cx="73800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5856600">
            <a:off x="1905480" y="4105800"/>
            <a:ext cx="73836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5856600">
            <a:off x="1448280" y="4258440"/>
            <a:ext cx="73800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5856600">
            <a:off x="1067400" y="4083840"/>
            <a:ext cx="73800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5856600">
            <a:off x="1676880" y="4236120"/>
            <a:ext cx="73800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5856600">
            <a:off x="2081160" y="4106160"/>
            <a:ext cx="73836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856600">
            <a:off x="2538720" y="4258440"/>
            <a:ext cx="73800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5856600">
            <a:off x="2514600" y="4563360"/>
            <a:ext cx="73836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5856600">
            <a:off x="2057760" y="4715640"/>
            <a:ext cx="73800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5856600">
            <a:off x="1676880" y="4541040"/>
            <a:ext cx="73800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5856600">
            <a:off x="2591280" y="4290120"/>
            <a:ext cx="73800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856600">
            <a:off x="2995560" y="4160160"/>
            <a:ext cx="73836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856600">
            <a:off x="3453120" y="4312440"/>
            <a:ext cx="73800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5856600">
            <a:off x="3429000" y="4617360"/>
            <a:ext cx="73836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5856600">
            <a:off x="2972160" y="4769640"/>
            <a:ext cx="73800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5856600">
            <a:off x="2591280" y="4594680"/>
            <a:ext cx="73836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5856600">
            <a:off x="2743560" y="3604320"/>
            <a:ext cx="73800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5856600">
            <a:off x="3148560" y="3474000"/>
            <a:ext cx="73836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5856600">
            <a:off x="3605760" y="3626640"/>
            <a:ext cx="73800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856600">
            <a:off x="3582000" y="3931200"/>
            <a:ext cx="73836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5856600">
            <a:off x="3124800" y="4083840"/>
            <a:ext cx="73800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5856600">
            <a:off x="2743200" y="3909240"/>
            <a:ext cx="73836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5856600">
            <a:off x="0" y="4366440"/>
            <a:ext cx="73836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856600">
            <a:off x="405360" y="4236120"/>
            <a:ext cx="73800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5856600">
            <a:off x="914760" y="4236120"/>
            <a:ext cx="73800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5856600">
            <a:off x="838800" y="4693320"/>
            <a:ext cx="73800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5856600">
            <a:off x="381600" y="4845600"/>
            <a:ext cx="73836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5856600">
            <a:off x="0" y="4671360"/>
            <a:ext cx="73836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856600">
            <a:off x="360" y="4998240"/>
            <a:ext cx="73800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5856600">
            <a:off x="405360" y="4867920"/>
            <a:ext cx="73800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5856600">
            <a:off x="3261240" y="5020200"/>
            <a:ext cx="73836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5856600">
            <a:off x="3548520" y="5325120"/>
            <a:ext cx="73800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5856600">
            <a:off x="3979800" y="5477760"/>
            <a:ext cx="73836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5856600">
            <a:off x="0" y="5303160"/>
            <a:ext cx="73836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5856600">
            <a:off x="7221960" y="2416680"/>
            <a:ext cx="73836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5856600">
            <a:off x="7437960" y="2632680"/>
            <a:ext cx="73836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856600">
            <a:off x="7653960" y="2848680"/>
            <a:ext cx="73800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856600">
            <a:off x="7869600" y="3064680"/>
            <a:ext cx="73800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856600">
            <a:off x="8085600" y="3280320"/>
            <a:ext cx="73836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5856600">
            <a:off x="8301600" y="3702600"/>
            <a:ext cx="73836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5856600">
            <a:off x="8312760" y="4134600"/>
            <a:ext cx="73800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5856600">
            <a:off x="8312760" y="2851920"/>
            <a:ext cx="73800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5856600">
            <a:off x="8457120" y="4799520"/>
            <a:ext cx="73836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5856600">
            <a:off x="1511640" y="1632600"/>
            <a:ext cx="73800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5856600">
            <a:off x="1727640" y="1848600"/>
            <a:ext cx="73800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856600">
            <a:off x="1688040" y="3575520"/>
            <a:ext cx="73836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5856600">
            <a:off x="1821240" y="3026520"/>
            <a:ext cx="73800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5856600">
            <a:off x="8384040" y="4350240"/>
            <a:ext cx="73836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856600">
            <a:off x="4413600" y="5448960"/>
            <a:ext cx="73800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5856600">
            <a:off x="4845600" y="5448960"/>
            <a:ext cx="73800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5856600">
            <a:off x="5277240" y="5448960"/>
            <a:ext cx="73800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5856600">
            <a:off x="5709240" y="5448960"/>
            <a:ext cx="73800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5856600">
            <a:off x="6140880" y="5448960"/>
            <a:ext cx="73800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856600">
            <a:off x="6501240" y="5448960"/>
            <a:ext cx="73800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5856600">
            <a:off x="6861600" y="5375880"/>
            <a:ext cx="73836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5856600">
            <a:off x="7221960" y="5375880"/>
            <a:ext cx="73836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5856600">
            <a:off x="7580880" y="5232960"/>
            <a:ext cx="73836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5856600">
            <a:off x="8025120" y="5088600"/>
            <a:ext cx="73800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5856600">
            <a:off x="5924520" y="5160240"/>
            <a:ext cx="73836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17080" y="5589720"/>
            <a:ext cx="792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º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5856600">
            <a:off x="103680" y="191160"/>
            <a:ext cx="73800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5856600">
            <a:off x="247680" y="534240"/>
            <a:ext cx="73836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3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5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5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5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5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6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6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6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7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7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8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8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8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8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9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9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9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9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9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10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10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10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10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11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11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11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11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11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12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12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12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12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12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13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13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13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13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13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14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14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14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14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14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15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15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989080" y="2637000"/>
            <a:ext cx="51116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xige um conjunto                  de qualidades superiores                             para que a obra                 se consolide                         e prosper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32000" y="692280"/>
            <a:ext cx="640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O Êxito e a Eficiência                  </a:t>
            </a:r>
            <a:r>
              <a:rPr b="0" i="1" lang="en-US" sz="2800" spc="-1" strike="noStrike">
                <a:solidFill>
                  <a:srgbClr val="ccffff"/>
                </a:solidFill>
                <a:latin typeface="Arial"/>
              </a:rPr>
              <a:t>Na direção de uma Empresa</a:t>
            </a:r>
            <a:r>
              <a:rPr b="0" i="1" lang="en-US" sz="36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03280" y="2205000"/>
            <a:ext cx="1584360" cy="1224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rot="5856600">
            <a:off x="103680" y="191160"/>
            <a:ext cx="73800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5856600">
            <a:off x="247680" y="534240"/>
            <a:ext cx="73836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17080" y="5589720"/>
            <a:ext cx="792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º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15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16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06164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ara Êxito                     </a:t>
            </a:r>
            <a:r>
              <a:rPr b="0" i="1" lang="en-US" sz="3600" spc="-1" strike="noStrike">
                <a:solidFill>
                  <a:srgbClr val="ccffff"/>
                </a:solidFill>
                <a:latin typeface="Arial"/>
              </a:rPr>
              <a:t>na Direção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031760" y="2422440"/>
            <a:ext cx="7068960" cy="3708360"/>
            <a:chOff x="1031760" y="2422440"/>
            <a:chExt cx="7068960" cy="3708360"/>
          </a:xfrm>
        </p:grpSpPr>
        <p:cxnSp>
          <p:nvCxnSpPr>
            <p:cNvPr id="128" name="_s60421"/>
            <p:cNvCxnSpPr>
              <a:stCxn id="129" idx="0"/>
              <a:endCxn id="130" idx="2"/>
            </p:cNvCxnSpPr>
            <p:nvPr/>
          </p:nvCxnSpPr>
          <p:spPr>
            <a:xfrm flipV="1" rot="16200000">
              <a:off x="5905080" y="1844280"/>
              <a:ext cx="143640" cy="2737080"/>
            </a:xfrm>
            <a:prstGeom prst="bentConnector3">
              <a:avLst>
                <a:gd name="adj1" fmla="val 50000"/>
              </a:avLst>
            </a:prstGeom>
            <a:ln w="0">
              <a:noFill/>
            </a:ln>
          </p:spPr>
        </p:cxnSp>
        <p:cxnSp>
          <p:nvCxnSpPr>
            <p:cNvPr id="131" name="_s60422"/>
            <p:cNvCxnSpPr/>
            <p:nvPr/>
          </p:nvCxnSpPr>
          <p:spPr>
            <a:xfrm flipH="1" flipV="1">
              <a:off x="4642560" y="3715920"/>
              <a:ext cx="973800" cy="432720"/>
            </a:xfrm>
            <a:prstGeom prst="bentConnector3">
              <a:avLst>
                <a:gd name="adj1" fmla="val -295"/>
              </a:avLst>
            </a:prstGeom>
            <a:ln w="0">
              <a:noFill/>
            </a:ln>
          </p:spPr>
        </p:cxnSp>
        <p:cxnSp>
          <p:nvCxnSpPr>
            <p:cNvPr id="132" name="_s60423"/>
            <p:cNvCxnSpPr/>
            <p:nvPr/>
          </p:nvCxnSpPr>
          <p:spPr>
            <a:xfrm flipH="1" flipV="1" rot="5400000">
              <a:off x="3582000" y="3194280"/>
              <a:ext cx="1224360" cy="829440"/>
            </a:xfrm>
            <a:prstGeom prst="bentConnector3">
              <a:avLst>
                <a:gd name="adj1" fmla="val 41088"/>
              </a:avLst>
            </a:prstGeom>
            <a:ln w="0">
              <a:noFill/>
            </a:ln>
          </p:spPr>
        </p:cxnSp>
        <p:cxnSp>
          <p:nvCxnSpPr>
            <p:cNvPr id="133" name="_s60424"/>
            <p:cNvCxnSpPr>
              <a:stCxn id="134" idx="0"/>
            </p:cNvCxnSpPr>
            <p:nvPr/>
          </p:nvCxnSpPr>
          <p:spPr>
            <a:xfrm flipH="1" flipV="1" rot="5400000">
              <a:off x="3007800" y="1649160"/>
              <a:ext cx="457920" cy="2813760"/>
            </a:xfrm>
            <a:prstGeom prst="bentConnector2">
              <a:avLst/>
            </a:prstGeom>
            <a:ln w="0">
              <a:noFill/>
            </a:ln>
          </p:spPr>
        </p:cxnSp>
        <p:sp>
          <p:nvSpPr>
            <p:cNvPr id="130" name="_s60425"/>
            <p:cNvSpPr/>
            <p:nvPr/>
          </p:nvSpPr>
          <p:spPr>
            <a:xfrm>
              <a:off x="3132000" y="2422440"/>
              <a:ext cx="2952720" cy="719280"/>
            </a:xfrm>
            <a:prstGeom prst="roundRect">
              <a:avLst>
                <a:gd name="adj" fmla="val 16667"/>
              </a:avLst>
            </a:prstGeom>
            <a:solidFill>
              <a:srgbClr val="66ccff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4840" bIns="24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Arial"/>
                </a:rPr>
                <a:t>Não Basta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_s60426"/>
            <p:cNvSpPr/>
            <p:nvPr/>
          </p:nvSpPr>
          <p:spPr>
            <a:xfrm>
              <a:off x="1031760" y="3284640"/>
              <a:ext cx="1595520" cy="1176120"/>
            </a:xfrm>
            <a:prstGeom prst="roundRect">
              <a:avLst>
                <a:gd name="adj" fmla="val 16667"/>
              </a:avLst>
            </a:prstGeom>
            <a:solidFill>
              <a:srgbClr val="66cc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4840" bIns="248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omeaçã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_s60427"/>
            <p:cNvSpPr/>
            <p:nvPr/>
          </p:nvSpPr>
          <p:spPr>
            <a:xfrm>
              <a:off x="2771640" y="3308400"/>
              <a:ext cx="1762200" cy="1176120"/>
            </a:xfrm>
            <a:prstGeom prst="roundRect">
              <a:avLst>
                <a:gd name="adj" fmla="val 16667"/>
              </a:avLst>
            </a:prstGeom>
            <a:solidFill>
              <a:srgbClr val="66cc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utoridad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_s60428"/>
            <p:cNvSpPr/>
            <p:nvPr/>
          </p:nvSpPr>
          <p:spPr>
            <a:xfrm>
              <a:off x="4716360" y="3308400"/>
              <a:ext cx="1684440" cy="1176120"/>
            </a:xfrm>
            <a:prstGeom prst="roundRect">
              <a:avLst>
                <a:gd name="adj" fmla="val 16667"/>
              </a:avLst>
            </a:prstGeom>
            <a:solidFill>
              <a:srgbClr val="66cc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eoria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 Cultur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_s60429"/>
            <p:cNvSpPr/>
            <p:nvPr/>
          </p:nvSpPr>
          <p:spPr>
            <a:xfrm>
              <a:off x="6588000" y="3284640"/>
              <a:ext cx="1512720" cy="1176120"/>
            </a:xfrm>
            <a:prstGeom prst="roundRect">
              <a:avLst>
                <a:gd name="adj" fmla="val 16667"/>
              </a:avLst>
            </a:prstGeom>
            <a:solidFill>
              <a:srgbClr val="66cc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ilatado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ecurso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445080" y="4390920"/>
              <a:ext cx="16556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Riqueza sem orientação               é navio                à matroc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140360" y="1268280"/>
            <a:ext cx="922320" cy="1152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rot="5856600">
            <a:off x="103680" y="191160"/>
            <a:ext cx="73800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5856600">
            <a:off x="247680" y="534240"/>
            <a:ext cx="73836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317080" y="5589720"/>
            <a:ext cx="792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º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16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17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1031760" y="2422440"/>
            <a:ext cx="7068960" cy="2062080"/>
            <a:chOff x="1031760" y="2422440"/>
            <a:chExt cx="7068960" cy="2062080"/>
          </a:xfrm>
        </p:grpSpPr>
        <p:cxnSp>
          <p:nvCxnSpPr>
            <p:cNvPr id="143" name="_s62469"/>
            <p:cNvCxnSpPr>
              <a:stCxn id="144" idx="0"/>
              <a:endCxn id="145" idx="2"/>
            </p:cNvCxnSpPr>
            <p:nvPr/>
          </p:nvCxnSpPr>
          <p:spPr>
            <a:xfrm flipV="1" rot="16200000">
              <a:off x="5905080" y="1844280"/>
              <a:ext cx="143640" cy="2737080"/>
            </a:xfrm>
            <a:prstGeom prst="bentConnector3">
              <a:avLst>
                <a:gd name="adj1" fmla="val 50000"/>
              </a:avLst>
            </a:prstGeom>
            <a:ln w="0">
              <a:noFill/>
            </a:ln>
          </p:spPr>
        </p:cxnSp>
        <p:cxnSp>
          <p:nvCxnSpPr>
            <p:cNvPr id="146" name="_s62470"/>
            <p:cNvCxnSpPr/>
            <p:nvPr/>
          </p:nvCxnSpPr>
          <p:spPr>
            <a:xfrm flipH="1" flipV="1">
              <a:off x="4642560" y="3715920"/>
              <a:ext cx="973800" cy="432720"/>
            </a:xfrm>
            <a:prstGeom prst="bentConnector3">
              <a:avLst>
                <a:gd name="adj1" fmla="val -295"/>
              </a:avLst>
            </a:prstGeom>
            <a:ln w="0">
              <a:noFill/>
            </a:ln>
          </p:spPr>
        </p:cxnSp>
        <p:cxnSp>
          <p:nvCxnSpPr>
            <p:cNvPr id="147" name="_s62471"/>
            <p:cNvCxnSpPr/>
            <p:nvPr/>
          </p:nvCxnSpPr>
          <p:spPr>
            <a:xfrm flipH="1" flipV="1" rot="5400000">
              <a:off x="3582000" y="3194280"/>
              <a:ext cx="1224360" cy="829440"/>
            </a:xfrm>
            <a:prstGeom prst="bentConnector3">
              <a:avLst>
                <a:gd name="adj1" fmla="val 41088"/>
              </a:avLst>
            </a:prstGeom>
            <a:ln w="0">
              <a:noFill/>
            </a:ln>
          </p:spPr>
        </p:cxnSp>
        <p:cxnSp>
          <p:nvCxnSpPr>
            <p:cNvPr id="148" name="_s62472"/>
            <p:cNvCxnSpPr>
              <a:stCxn id="149" idx="0"/>
            </p:cNvCxnSpPr>
            <p:nvPr/>
          </p:nvCxnSpPr>
          <p:spPr>
            <a:xfrm flipH="1" flipV="1" rot="5400000">
              <a:off x="3007800" y="1649160"/>
              <a:ext cx="457920" cy="2813760"/>
            </a:xfrm>
            <a:prstGeom prst="bentConnector2">
              <a:avLst/>
            </a:prstGeom>
            <a:ln w="0">
              <a:noFill/>
            </a:ln>
          </p:spPr>
        </p:cxnSp>
        <p:sp>
          <p:nvSpPr>
            <p:cNvPr id="145" name="_s62473"/>
            <p:cNvSpPr/>
            <p:nvPr/>
          </p:nvSpPr>
          <p:spPr>
            <a:xfrm>
              <a:off x="3132000" y="2422440"/>
              <a:ext cx="2952720" cy="719280"/>
            </a:xfrm>
            <a:prstGeom prst="roundRect">
              <a:avLst>
                <a:gd name="adj" fmla="val 16667"/>
              </a:avLst>
            </a:prstGeom>
            <a:solidFill>
              <a:srgbClr val="66ccff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4840" bIns="24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Arial"/>
                </a:rPr>
                <a:t>Exige-se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_s62474"/>
            <p:cNvSpPr/>
            <p:nvPr/>
          </p:nvSpPr>
          <p:spPr>
            <a:xfrm>
              <a:off x="1031760" y="3284640"/>
              <a:ext cx="1595520" cy="1176120"/>
            </a:xfrm>
            <a:prstGeom prst="roundRect">
              <a:avLst>
                <a:gd name="adj" fmla="val 16667"/>
              </a:avLst>
            </a:prstGeom>
            <a:solidFill>
              <a:srgbClr val="66cc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iscerni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nt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_s62475"/>
            <p:cNvSpPr/>
            <p:nvPr/>
          </p:nvSpPr>
          <p:spPr>
            <a:xfrm>
              <a:off x="2771640" y="3308400"/>
              <a:ext cx="1762200" cy="1176120"/>
            </a:xfrm>
            <a:prstGeom prst="roundRect">
              <a:avLst>
                <a:gd name="adj" fmla="val 16667"/>
              </a:avLst>
            </a:prstGeom>
            <a:solidFill>
              <a:srgbClr val="66cc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Virtude e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Juízo clar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_s62476"/>
            <p:cNvSpPr/>
            <p:nvPr/>
          </p:nvSpPr>
          <p:spPr>
            <a:xfrm>
              <a:off x="4716360" y="3308400"/>
              <a:ext cx="1684440" cy="1176120"/>
            </a:xfrm>
            <a:prstGeom prst="roundRect">
              <a:avLst>
                <a:gd name="adj" fmla="val 16667"/>
              </a:avLst>
            </a:prstGeom>
            <a:solidFill>
              <a:srgbClr val="66cc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Justiça 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ondad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_s62477"/>
            <p:cNvSpPr/>
            <p:nvPr/>
          </p:nvSpPr>
          <p:spPr>
            <a:xfrm>
              <a:off x="6588000" y="3284640"/>
              <a:ext cx="1512720" cy="1176120"/>
            </a:xfrm>
            <a:prstGeom prst="roundRect">
              <a:avLst>
                <a:gd name="adj" fmla="val 16667"/>
              </a:avLst>
            </a:prstGeom>
            <a:solidFill>
              <a:srgbClr val="66cc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rabalho 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isciplin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5148360" y="1300320"/>
            <a:ext cx="352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 o timão do caráter sadio, a inteligência                                     espalha a miséria                      e a cruelda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068720" y="620640"/>
            <a:ext cx="1150920" cy="11527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8920" y="691920"/>
            <a:ext cx="42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ara Êxito                     na Direção 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856600">
            <a:off x="103680" y="191160"/>
            <a:ext cx="73800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5856600">
            <a:off x="247680" y="534240"/>
            <a:ext cx="73836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17080" y="5589720"/>
            <a:ext cx="792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º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autoRev="1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18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500280" y="3224160"/>
            <a:ext cx="1216080" cy="2220840"/>
          </a:xfrm>
          <a:custGeom>
            <a:avLst/>
            <a:gdLst>
              <a:gd name="textAreaLeft" fmla="*/ 1440 w 1216080"/>
              <a:gd name="textAreaRight" fmla="*/ 949680 w 1216080"/>
              <a:gd name="textAreaTop" fmla="*/ 1050480 h 2220840"/>
              <a:gd name="textAreaBottom" fmla="*/ 1170360 h 2220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9232" y="3025"/>
                  <a:pt x="16864" y="5080"/>
                  <a:pt x="16864" y="10800"/>
                </a:cubicBezTo>
                <a:cubicBezTo>
                  <a:pt x="16864" y="16520"/>
                  <a:pt x="19232" y="1857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e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Le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sob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a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Vontad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981080" y="5516280"/>
            <a:ext cx="5183280" cy="792000"/>
            <a:chOff x="1981080" y="5516280"/>
            <a:chExt cx="5183280" cy="792000"/>
          </a:xfrm>
        </p:grpSpPr>
        <p:sp>
          <p:nvSpPr>
            <p:cNvPr id="160" name="_s50187"/>
            <p:cNvSpPr/>
            <p:nvPr/>
          </p:nvSpPr>
          <p:spPr>
            <a:xfrm>
              <a:off x="1981080" y="5516280"/>
              <a:ext cx="5183280" cy="792000"/>
            </a:xfrm>
            <a:prstGeom prst="roundRect">
              <a:avLst>
                <a:gd name="adj" fmla="val 19574"/>
              </a:avLst>
            </a:prstGeom>
            <a:solidFill>
              <a:srgbClr val="ffe701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" rIns="4680" tIns="2160" bIns="2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ão pode relaxar no seu mister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708360" y="1384200"/>
            <a:ext cx="1825560" cy="18288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 vontade é o Capit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5856600">
            <a:off x="103680" y="191160"/>
            <a:ext cx="73800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5856600">
            <a:off x="247680" y="534240"/>
            <a:ext cx="73836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17080" y="5589720"/>
            <a:ext cx="792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º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autoRev="1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1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7" nodeType="afterEffect" fill="hold" presetClass="emph" presetID="32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198" dur="1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animClr clrSpc="rgb">
                                      <p:cBhvr>
                                        <p:cTn id="199" dur="1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set>
                                      <p:cBhvr>
                                        <p:cTn id="200" dur="1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20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20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ssessores da Direção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052720" y="2925720"/>
            <a:ext cx="5040360" cy="2663640"/>
            <a:chOff x="2052720" y="2925720"/>
            <a:chExt cx="5040360" cy="2663640"/>
          </a:xfrm>
        </p:grpSpPr>
        <p:sp>
          <p:nvSpPr>
            <p:cNvPr id="168" name="_s61449"/>
            <p:cNvSpPr/>
            <p:nvPr/>
          </p:nvSpPr>
          <p:spPr>
            <a:xfrm>
              <a:off x="3071880" y="2925720"/>
              <a:ext cx="2952720" cy="718920"/>
            </a:xfrm>
            <a:prstGeom prst="roundRect">
              <a:avLst>
                <a:gd name="adj" fmla="val 16667"/>
              </a:avLst>
            </a:prstGeom>
            <a:solidFill>
              <a:srgbClr val="66ccff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4840" bIns="24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Arial"/>
                </a:rPr>
                <a:t>Vontade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_s1033"/>
            <p:cNvSpPr/>
            <p:nvPr/>
          </p:nvSpPr>
          <p:spPr>
            <a:xfrm>
              <a:off x="2052720" y="4078080"/>
              <a:ext cx="1677960" cy="576360"/>
            </a:xfrm>
            <a:prstGeom prst="roundRect">
              <a:avLst>
                <a:gd name="adj" fmla="val 16667"/>
              </a:avLst>
            </a:prstGeom>
            <a:solidFill>
              <a:srgbClr val="66ccff">
                <a:alpha val="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onderaçã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97560" y="4078080"/>
              <a:ext cx="1595520" cy="576360"/>
            </a:xfrm>
            <a:prstGeom prst="roundRect">
              <a:avLst>
                <a:gd name="adj" fmla="val 16667"/>
              </a:avLst>
            </a:prstGeom>
            <a:solidFill>
              <a:srgbClr val="66ccff">
                <a:alpha val="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 ó g i c 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1" name="_s1031"/>
            <p:cNvCxnSpPr>
              <a:endCxn id="168" idx="2"/>
            </p:cNvCxnSpPr>
            <p:nvPr/>
          </p:nvCxnSpPr>
          <p:spPr>
            <a:xfrm flipV="1">
              <a:off x="3790800" y="3644280"/>
              <a:ext cx="757800" cy="72144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</p:cxnSp>
        <p:cxnSp>
          <p:nvCxnSpPr>
            <p:cNvPr id="172" name="_s1031"/>
            <p:cNvCxnSpPr>
              <a:stCxn id="170" idx="1"/>
              <a:endCxn id="168" idx="2"/>
            </p:cNvCxnSpPr>
            <p:nvPr/>
          </p:nvCxnSpPr>
          <p:spPr>
            <a:xfrm rot="10800000">
              <a:off x="4547520" y="3643920"/>
              <a:ext cx="950040" cy="72324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</p:cxnSp>
        <p:sp>
          <p:nvSpPr>
            <p:cNvPr id="173" name="_s1028"/>
            <p:cNvSpPr/>
            <p:nvPr/>
          </p:nvSpPr>
          <p:spPr>
            <a:xfrm>
              <a:off x="2124000" y="4797360"/>
              <a:ext cx="4824360" cy="792000"/>
            </a:xfrm>
            <a:prstGeom prst="roundRect">
              <a:avLst>
                <a:gd name="adj" fmla="val 19574"/>
              </a:avLst>
            </a:prstGeom>
            <a:solidFill>
              <a:srgbClr val="ffe701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" rIns="4680" tIns="2160" bIns="2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ONSELHEIROS RESPEITÁVEI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a chefia das decisõ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924360" y="1341360"/>
            <a:ext cx="1224000" cy="1224000"/>
          </a:xfrm>
          <a:prstGeom prst="rect">
            <a:avLst/>
          </a:prstGeom>
          <a:ln w="0">
            <a:noFill/>
          </a:ln>
          <a:effectLst>
            <a:outerShdw dist="193524" dir="14806406" blurRad="0" rotWithShape="0">
              <a:srgbClr val="808080">
                <a:alpha val="50000"/>
              </a:srgbClr>
            </a:outerShdw>
          </a:effectLst>
        </p:spPr>
      </p:pic>
      <p:sp>
        <p:nvSpPr>
          <p:cNvPr id="175" name=""/>
          <p:cNvSpPr/>
          <p:nvPr/>
        </p:nvSpPr>
        <p:spPr>
          <a:xfrm rot="5856600">
            <a:off x="103680" y="191160"/>
            <a:ext cx="73800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5856600">
            <a:off x="247680" y="534240"/>
            <a:ext cx="73836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17080" y="5589720"/>
            <a:ext cx="792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º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21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22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556000" y="3284640"/>
            <a:ext cx="3960720" cy="865080"/>
          </a:xfrm>
          <a:prstGeom prst="roundRect">
            <a:avLst>
              <a:gd name="adj" fmla="val 16667"/>
            </a:avLst>
          </a:prstGeom>
          <a:solidFill>
            <a:srgbClr val="ffe7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SEN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COOPERAÇÃ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1820880" cy="18064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20680" y="4221000"/>
            <a:ext cx="1527120" cy="18100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2076480" y="1268280"/>
            <a:ext cx="1271520" cy="14558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5149800" y="4292640"/>
            <a:ext cx="2301840" cy="222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6975360" y="3213000"/>
            <a:ext cx="2168640" cy="18385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6372360" y="1268280"/>
            <a:ext cx="1822320" cy="15811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Quem Sustenta todos os Impulso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7"/>
          <a:stretch/>
        </p:blipFill>
        <p:spPr>
          <a:xfrm>
            <a:off x="4067280" y="2349360"/>
            <a:ext cx="1152360" cy="8906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8"/>
          <a:stretch/>
        </p:blipFill>
        <p:spPr>
          <a:xfrm flipH="1">
            <a:off x="3594240" y="2637000"/>
            <a:ext cx="473040" cy="6476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900000" y="3716280"/>
            <a:ext cx="8064720" cy="2952720"/>
          </a:xfrm>
          <a:custGeom>
            <a:avLst/>
            <a:gdLst>
              <a:gd name="textAreaLeft" fmla="*/ 1740240 w 8064720"/>
              <a:gd name="textAreaRight" fmla="*/ 5518080 w 8064720"/>
              <a:gd name="textAreaTop" fmla="*/ 395280 h 2952720"/>
              <a:gd name="textAreaBottom" fmla="*/ 2557440 h 29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322" hR="21600" stAng="10800000" swAng="-5400000"/>
                <a:lnTo>
                  <a:pt x="10118" y="21600"/>
                </a:lnTo>
                <a:arcTo wR="9322" hR="21600" stAng="5400000" swAng="-3040502"/>
                <a:lnTo>
                  <a:pt x="21067" y="7200"/>
                </a:lnTo>
                <a:lnTo>
                  <a:pt x="19042" y="0"/>
                </a:lnTo>
                <a:lnTo>
                  <a:pt x="15951" y="7200"/>
                </a:lnTo>
                <a:lnTo>
                  <a:pt x="18111" y="7200"/>
                </a:lnTo>
                <a:arcTo wR="9322" hR="21600" stAng="2359498" swAng="2977108"/>
                <a:lnTo>
                  <a:pt x="9720" y="21580"/>
                </a:lnTo>
                <a:arcTo wR="9322" hR="21600" stAng="5463394" swAng="5336606"/>
                <a:close/>
              </a:path>
              <a:path fill="darkenLess" w="21600" h="21600">
                <a:moveTo>
                  <a:pt x="0" y="0"/>
                </a:moveTo>
                <a:arcTo wR="9322" hR="21600" stAng="10800000" swAng="-5400000"/>
                <a:lnTo>
                  <a:pt x="10118" y="21600"/>
                </a:lnTo>
                <a:arcTo wR="9322" hR="21600" stAng="5400000" swAng="63394"/>
                <a:lnTo>
                  <a:pt x="9720" y="21580"/>
                </a:lnTo>
                <a:arcTo wR="9322" hR="21600" stAng="5463394" swAng="5336606"/>
                <a:close/>
              </a:path>
            </a:pathLst>
          </a:custGeom>
          <a:solidFill>
            <a:srgbClr val="3366cc">
              <a:alpha val="2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TUDO COOPERA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112536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60720" y="981000"/>
            <a:ext cx="30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A CONFECÇÃO DO AGASALHO CO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9"/>
          <a:stretch/>
        </p:blipFill>
        <p:spPr>
          <a:xfrm>
            <a:off x="1857240" y="4365720"/>
            <a:ext cx="1332000" cy="18176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0"/>
          <a:stretch/>
        </p:blipFill>
        <p:spPr>
          <a:xfrm>
            <a:off x="3486240" y="4437000"/>
            <a:ext cx="1430280" cy="18129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356000" y="1700280"/>
            <a:ext cx="358920" cy="360360"/>
          </a:xfrm>
          <a:prstGeom prst="downArrow">
            <a:avLst>
              <a:gd name="adj1" fmla="val 50000"/>
              <a:gd name="adj2" fmla="val 25100"/>
            </a:avLst>
          </a:prstGeom>
          <a:solidFill>
            <a:srgbClr val="ffe7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320" rIns="4320" tIns="2160" bIns="2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5856600">
            <a:off x="103680" y="191160"/>
            <a:ext cx="73800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5856600">
            <a:off x="247680" y="534240"/>
            <a:ext cx="73836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17080" y="5589720"/>
            <a:ext cx="792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º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50" autoRev="1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232" dur="250" autoRev="1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233" dur="250" autoRev="1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0"/>
                            </p:stCondLst>
                            <p:childTnLst>
                              <p:par>
                                <p:cTn id="2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6000"/>
                            </p:stCondLst>
                            <p:childTnLst>
                              <p:par>
                                <p:cTn id="2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7000"/>
                            </p:stCondLst>
                            <p:childTnLst>
                              <p:par>
                                <p:cTn id="2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8000"/>
                            </p:stCondLst>
                            <p:childTnLst>
                              <p:par>
                                <p:cTn id="2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9000"/>
                            </p:stCondLst>
                            <p:childTnLst>
                              <p:par>
                                <p:cTn id="283" nodeType="afterEffect" fill="hold" presetClass="entr" presetID="31" repeatCount="indefinite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1050"/>
                            </p:stCondLst>
                            <p:childTnLst>
                              <p:par>
                                <p:cTn id="290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2" dur="250" autoRev="1" fill="hold"/>
                                        <p:tgtEl>
                                          <p:spTgt spid="1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3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294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296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Quem sustenta                                                 todos os Impulso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68360" y="1235160"/>
            <a:ext cx="4608720" cy="647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O ESTADO INDIVIDU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03280" y="461808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operação espontânea                                                       é o supremo ingrediente                                                     da orde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_s1028"/>
          <p:cNvSpPr/>
          <p:nvPr/>
        </p:nvSpPr>
        <p:spPr>
          <a:xfrm>
            <a:off x="2124000" y="3683160"/>
            <a:ext cx="4824360" cy="792000"/>
          </a:xfrm>
          <a:prstGeom prst="roundRect">
            <a:avLst>
              <a:gd name="adj" fmla="val 19574"/>
            </a:avLst>
          </a:prstGeom>
          <a:solidFill>
            <a:srgbClr val="ffe701">
              <a:alpha val="2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160" bIns="21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SEN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COOPERAÇÃO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56000" y="1954080"/>
            <a:ext cx="358920" cy="505080"/>
          </a:xfrm>
          <a:prstGeom prst="downArrow">
            <a:avLst>
              <a:gd name="adj1" fmla="val 50000"/>
              <a:gd name="adj2" fmla="val 35181"/>
            </a:avLst>
          </a:prstGeom>
          <a:solidFill>
            <a:srgbClr val="ffe7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320" rIns="4320" tIns="2160" bIns="2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5856600">
            <a:off x="103680" y="191160"/>
            <a:ext cx="738000" cy="58752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5856600">
            <a:off x="247680" y="534240"/>
            <a:ext cx="738360" cy="587160"/>
          </a:xfrm>
          <a:custGeom>
            <a:avLst/>
            <a:gdLst/>
            <a:ahLst/>
            <a:rect l="l" t="t" r="r" b="b"/>
            <a:pathLst>
              <a:path w="465" h="370">
                <a:moveTo>
                  <a:pt x="198" y="36"/>
                </a:moveTo>
                <a:cubicBezTo>
                  <a:pt x="202" y="64"/>
                  <a:pt x="197" y="95"/>
                  <a:pt x="210" y="120"/>
                </a:cubicBezTo>
                <a:cubicBezTo>
                  <a:pt x="243" y="185"/>
                  <a:pt x="278" y="73"/>
                  <a:pt x="282" y="60"/>
                </a:cubicBezTo>
                <a:cubicBezTo>
                  <a:pt x="274" y="48"/>
                  <a:pt x="272" y="29"/>
                  <a:pt x="258" y="24"/>
                </a:cubicBezTo>
                <a:cubicBezTo>
                  <a:pt x="208" y="7"/>
                  <a:pt x="207" y="45"/>
                  <a:pt x="198" y="72"/>
                </a:cubicBezTo>
                <a:cubicBezTo>
                  <a:pt x="224" y="150"/>
                  <a:pt x="241" y="133"/>
                  <a:pt x="318" y="120"/>
                </a:cubicBezTo>
                <a:cubicBezTo>
                  <a:pt x="352" y="69"/>
                  <a:pt x="356" y="57"/>
                  <a:pt x="294" y="36"/>
                </a:cubicBezTo>
                <a:cubicBezTo>
                  <a:pt x="286" y="48"/>
                  <a:pt x="272" y="58"/>
                  <a:pt x="270" y="72"/>
                </a:cubicBezTo>
                <a:cubicBezTo>
                  <a:pt x="263" y="116"/>
                  <a:pt x="310" y="145"/>
                  <a:pt x="342" y="156"/>
                </a:cubicBezTo>
                <a:cubicBezTo>
                  <a:pt x="352" y="154"/>
                  <a:pt x="465" y="142"/>
                  <a:pt x="378" y="84"/>
                </a:cubicBezTo>
                <a:cubicBezTo>
                  <a:pt x="361" y="73"/>
                  <a:pt x="338" y="92"/>
                  <a:pt x="318" y="96"/>
                </a:cubicBezTo>
                <a:cubicBezTo>
                  <a:pt x="322" y="144"/>
                  <a:pt x="310" y="196"/>
                  <a:pt x="330" y="240"/>
                </a:cubicBezTo>
                <a:cubicBezTo>
                  <a:pt x="337" y="255"/>
                  <a:pt x="365" y="238"/>
                  <a:pt x="378" y="228"/>
                </a:cubicBezTo>
                <a:cubicBezTo>
                  <a:pt x="388" y="220"/>
                  <a:pt x="386" y="204"/>
                  <a:pt x="390" y="192"/>
                </a:cubicBezTo>
                <a:cubicBezTo>
                  <a:pt x="382" y="180"/>
                  <a:pt x="380" y="159"/>
                  <a:pt x="366" y="156"/>
                </a:cubicBezTo>
                <a:cubicBezTo>
                  <a:pt x="283" y="137"/>
                  <a:pt x="266" y="181"/>
                  <a:pt x="246" y="240"/>
                </a:cubicBezTo>
                <a:cubicBezTo>
                  <a:pt x="254" y="252"/>
                  <a:pt x="256" y="273"/>
                  <a:pt x="270" y="276"/>
                </a:cubicBezTo>
                <a:cubicBezTo>
                  <a:pt x="376" y="299"/>
                  <a:pt x="377" y="240"/>
                  <a:pt x="306" y="216"/>
                </a:cubicBezTo>
                <a:cubicBezTo>
                  <a:pt x="290" y="220"/>
                  <a:pt x="272" y="219"/>
                  <a:pt x="258" y="228"/>
                </a:cubicBezTo>
                <a:cubicBezTo>
                  <a:pt x="226" y="249"/>
                  <a:pt x="226" y="295"/>
                  <a:pt x="246" y="324"/>
                </a:cubicBezTo>
                <a:cubicBezTo>
                  <a:pt x="253" y="335"/>
                  <a:pt x="270" y="332"/>
                  <a:pt x="282" y="336"/>
                </a:cubicBezTo>
                <a:cubicBezTo>
                  <a:pt x="286" y="324"/>
                  <a:pt x="294" y="313"/>
                  <a:pt x="294" y="300"/>
                </a:cubicBezTo>
                <a:cubicBezTo>
                  <a:pt x="294" y="195"/>
                  <a:pt x="258" y="242"/>
                  <a:pt x="150" y="252"/>
                </a:cubicBezTo>
                <a:cubicBezTo>
                  <a:pt x="167" y="335"/>
                  <a:pt x="165" y="332"/>
                  <a:pt x="246" y="312"/>
                </a:cubicBezTo>
                <a:cubicBezTo>
                  <a:pt x="242" y="288"/>
                  <a:pt x="256" y="249"/>
                  <a:pt x="234" y="240"/>
                </a:cubicBezTo>
                <a:cubicBezTo>
                  <a:pt x="126" y="195"/>
                  <a:pt x="114" y="234"/>
                  <a:pt x="78" y="288"/>
                </a:cubicBezTo>
                <a:cubicBezTo>
                  <a:pt x="82" y="300"/>
                  <a:pt x="81" y="315"/>
                  <a:pt x="90" y="324"/>
                </a:cubicBezTo>
                <a:cubicBezTo>
                  <a:pt x="136" y="370"/>
                  <a:pt x="153" y="291"/>
                  <a:pt x="162" y="264"/>
                </a:cubicBezTo>
                <a:cubicBezTo>
                  <a:pt x="151" y="198"/>
                  <a:pt x="155" y="166"/>
                  <a:pt x="90" y="144"/>
                </a:cubicBezTo>
                <a:cubicBezTo>
                  <a:pt x="78" y="152"/>
                  <a:pt x="57" y="154"/>
                  <a:pt x="54" y="168"/>
                </a:cubicBezTo>
                <a:cubicBezTo>
                  <a:pt x="35" y="254"/>
                  <a:pt x="54" y="248"/>
                  <a:pt x="102" y="264"/>
                </a:cubicBezTo>
                <a:cubicBezTo>
                  <a:pt x="118" y="260"/>
                  <a:pt x="145" y="268"/>
                  <a:pt x="150" y="252"/>
                </a:cubicBezTo>
                <a:cubicBezTo>
                  <a:pt x="179" y="164"/>
                  <a:pt x="110" y="107"/>
                  <a:pt x="42" y="84"/>
                </a:cubicBezTo>
                <a:cubicBezTo>
                  <a:pt x="8" y="136"/>
                  <a:pt x="0" y="158"/>
                  <a:pt x="66" y="180"/>
                </a:cubicBezTo>
                <a:cubicBezTo>
                  <a:pt x="118" y="163"/>
                  <a:pt x="132" y="162"/>
                  <a:pt x="150" y="108"/>
                </a:cubicBezTo>
                <a:cubicBezTo>
                  <a:pt x="135" y="49"/>
                  <a:pt x="138" y="32"/>
                  <a:pt x="78" y="12"/>
                </a:cubicBezTo>
                <a:cubicBezTo>
                  <a:pt x="38" y="73"/>
                  <a:pt x="40" y="103"/>
                  <a:pt x="102" y="144"/>
                </a:cubicBezTo>
                <a:cubicBezTo>
                  <a:pt x="199" y="120"/>
                  <a:pt x="174" y="99"/>
                  <a:pt x="162" y="0"/>
                </a:cubicBezTo>
                <a:cubicBezTo>
                  <a:pt x="150" y="4"/>
                  <a:pt x="135" y="3"/>
                  <a:pt x="126" y="12"/>
                </a:cubicBezTo>
                <a:cubicBezTo>
                  <a:pt x="85" y="53"/>
                  <a:pt x="147" y="90"/>
                  <a:pt x="174" y="108"/>
                </a:cubicBezTo>
                <a:cubicBezTo>
                  <a:pt x="194" y="104"/>
                  <a:pt x="223" y="113"/>
                  <a:pt x="234" y="96"/>
                </a:cubicBezTo>
                <a:cubicBezTo>
                  <a:pt x="270" y="42"/>
                  <a:pt x="162" y="0"/>
                  <a:pt x="198" y="36"/>
                </a:cubicBezTo>
                <a:close/>
              </a:path>
            </a:pathLst>
          </a:custGeom>
          <a:noFill/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17080" y="5589720"/>
            <a:ext cx="792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º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500"/>
                            </p:stCondLst>
                            <p:childTnLst>
                              <p:par>
                                <p:cTn id="306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7" dur="250" autoRev="1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308" dur="250" autoRev="1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309" dur="250" autoRev="1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311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31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2:30:32Z</dcterms:created>
  <dc:creator>Administrador</dc:creator>
  <dc:description/>
  <dc:language>en-US</dc:language>
  <cp:lastModifiedBy>Cliente</cp:lastModifiedBy>
  <dcterms:modified xsi:type="dcterms:W3CDTF">2006-12-23T17:58:43Z</dcterms:modified>
  <cp:revision>95</cp:revision>
  <dc:subject/>
  <dc:title>Mente: espelho da vida</dc:title>
</cp:coreProperties>
</file>