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2901A-4BA0-40D8-8559-DCEEC034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EDE-232A-4683-8FAA-4D9C8461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4CD6-C349-4695-B897-503B25CE2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269B-3C0D-4122-A81E-904047CBB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BFFA-2956-458C-8799-2680AAED3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FDB4-0C2E-419F-B16D-AB084E1E1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CC17-428B-4604-A500-5C294142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BE8EF-E792-400F-AB01-FEADD3CF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959A-0F85-4D7C-846A-94010A61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FB2B-52F1-44A2-8E9A-73B56AD96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52A2-F57A-4C30-B6F1-136AE3E45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ABD5-364F-4FD1-B6FD-47FDDC14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5ABDF-888E-4750-B44E-9CEE391A9289}" type="slidenum">
              <a:rPr b="0" lang="pt-B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candeianet.com.br/loja_produtodetalhe.asp?id=144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andeianet.com.br/loja_produtodetalhe.asp?id=144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candeianet.com.br/loja_produtodetalhe.asp?id=144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59280" y="1628640"/>
            <a:ext cx="1008000" cy="1440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635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nsamento e Vid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43" name="" descr="Saiba mais sobre Pensamento e Vi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68520"/>
            <a:ext cx="952560" cy="1428840"/>
          </a:xfrm>
          <a:prstGeom prst="rect">
            <a:avLst/>
          </a:prstGeom>
          <a:ln w="0">
            <a:noFill/>
          </a:ln>
          <a:effectLst>
            <a:outerShdw dist="153009" dir="2493982" blurRad="0" rotWithShape="0">
              <a:srgbClr val="ffe701">
                <a:alpha val="50000"/>
              </a:srgbClr>
            </a:outerShdw>
          </a:effectLst>
        </p:spPr>
      </p:pic>
      <p:sp>
        <p:nvSpPr>
          <p:cNvPr id="44" name=""/>
          <p:cNvSpPr/>
          <p:nvPr/>
        </p:nvSpPr>
        <p:spPr>
          <a:xfrm>
            <a:off x="6516720" y="5300640"/>
            <a:ext cx="1871640" cy="13683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e7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ccffff"/>
                </a:solidFill>
                <a:latin typeface="Arial"/>
              </a:rPr>
              <a:t>VONT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47" name="_s67606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48" name="_s67607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_s67608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_s67609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_s67610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_s67611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53" name="_s67612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54" name="_s67613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55" name="_s67614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TIPOS DE FORÇ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476000" y="1892160"/>
            <a:ext cx="6119640" cy="671760"/>
            <a:chOff x="1476000" y="1892160"/>
            <a:chExt cx="6119640" cy="671760"/>
          </a:xfrm>
        </p:grpSpPr>
        <p:sp>
          <p:nvSpPr>
            <p:cNvPr id="198" name="_s51205"/>
            <p:cNvSpPr/>
            <p:nvPr/>
          </p:nvSpPr>
          <p:spPr>
            <a:xfrm>
              <a:off x="1476000" y="1892160"/>
              <a:ext cx="6119640" cy="671760"/>
            </a:xfrm>
            <a:prstGeom prst="roundRect">
              <a:avLst>
                <a:gd name="adj" fmla="val 16667"/>
              </a:avLst>
            </a:prstGeom>
            <a:solidFill>
              <a:srgbClr val="00b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 ELETRICIDADE É ENERGIA DINÂMIC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124000" y="2781360"/>
            <a:ext cx="4896000" cy="714240"/>
            <a:chOff x="2124000" y="2781360"/>
            <a:chExt cx="4896000" cy="714240"/>
          </a:xfrm>
        </p:grpSpPr>
        <p:sp>
          <p:nvSpPr>
            <p:cNvPr id="200" name="_s51208"/>
            <p:cNvSpPr/>
            <p:nvPr/>
          </p:nvSpPr>
          <p:spPr>
            <a:xfrm>
              <a:off x="2124000" y="2781360"/>
              <a:ext cx="4896000" cy="71424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 MAGNETISMO É ENERGIA ESTÁTIC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39640" y="4724280"/>
            <a:ext cx="8136000" cy="792360"/>
            <a:chOff x="539640" y="4724280"/>
            <a:chExt cx="8136000" cy="792360"/>
          </a:xfrm>
        </p:grpSpPr>
        <p:sp>
          <p:nvSpPr>
            <p:cNvPr id="202" name="_s51212"/>
            <p:cNvSpPr/>
            <p:nvPr/>
          </p:nvSpPr>
          <p:spPr>
            <a:xfrm>
              <a:off x="539640" y="4724280"/>
              <a:ext cx="8136000" cy="792360"/>
            </a:xfrm>
            <a:prstGeom prst="roundRect">
              <a:avLst>
                <a:gd name="adj" fmla="val 19574"/>
              </a:avLst>
            </a:prstGeom>
            <a:solidFill>
              <a:srgbClr val="ffe701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 PENSAMENTO É FORÇA ELETROMAGNÉTIC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 rot="20378400">
            <a:off x="7100640" y="2498760"/>
            <a:ext cx="1071360" cy="2433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984" y="425"/>
                  <a:pt x="2368" y="5080"/>
                  <a:pt x="2368" y="10800"/>
                </a:cubicBezTo>
                <a:cubicBezTo>
                  <a:pt x="2368" y="16520"/>
                  <a:pt x="11984" y="2117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rot="1221600">
            <a:off x="970920" y="2568240"/>
            <a:ext cx="1081080" cy="236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1996" y="429"/>
                  <a:pt x="2392" y="5080"/>
                  <a:pt x="2392" y="10800"/>
                </a:cubicBezTo>
                <a:cubicBezTo>
                  <a:pt x="2392" y="16520"/>
                  <a:pt x="11996" y="2117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00720" y="3789360"/>
            <a:ext cx="404640" cy="1100160"/>
          </a:xfrm>
          <a:custGeom>
            <a:avLst/>
            <a:gdLst/>
            <a:ahLst/>
            <a:rect l="l" t="t" r="r" b="b"/>
            <a:pathLst>
              <a:path w="603" h="1055">
                <a:moveTo>
                  <a:pt x="219" y="34"/>
                </a:moveTo>
                <a:cubicBezTo>
                  <a:pt x="133" y="63"/>
                  <a:pt x="161" y="37"/>
                  <a:pt x="123" y="94"/>
                </a:cubicBezTo>
                <a:cubicBezTo>
                  <a:pt x="127" y="122"/>
                  <a:pt x="124" y="152"/>
                  <a:pt x="135" y="178"/>
                </a:cubicBezTo>
                <a:cubicBezTo>
                  <a:pt x="141" y="191"/>
                  <a:pt x="161" y="192"/>
                  <a:pt x="171" y="202"/>
                </a:cubicBezTo>
                <a:cubicBezTo>
                  <a:pt x="181" y="212"/>
                  <a:pt x="187" y="226"/>
                  <a:pt x="195" y="238"/>
                </a:cubicBezTo>
                <a:cubicBezTo>
                  <a:pt x="171" y="246"/>
                  <a:pt x="140" y="253"/>
                  <a:pt x="123" y="274"/>
                </a:cubicBezTo>
                <a:cubicBezTo>
                  <a:pt x="117" y="282"/>
                  <a:pt x="99" y="355"/>
                  <a:pt x="99" y="358"/>
                </a:cubicBezTo>
                <a:cubicBezTo>
                  <a:pt x="86" y="437"/>
                  <a:pt x="92" y="465"/>
                  <a:pt x="51" y="526"/>
                </a:cubicBezTo>
                <a:cubicBezTo>
                  <a:pt x="79" y="611"/>
                  <a:pt x="186" y="580"/>
                  <a:pt x="267" y="586"/>
                </a:cubicBezTo>
                <a:cubicBezTo>
                  <a:pt x="287" y="582"/>
                  <a:pt x="313" y="588"/>
                  <a:pt x="327" y="574"/>
                </a:cubicBezTo>
                <a:cubicBezTo>
                  <a:pt x="336" y="565"/>
                  <a:pt x="324" y="547"/>
                  <a:pt x="315" y="538"/>
                </a:cubicBezTo>
                <a:cubicBezTo>
                  <a:pt x="306" y="529"/>
                  <a:pt x="291" y="530"/>
                  <a:pt x="279" y="526"/>
                </a:cubicBezTo>
                <a:cubicBezTo>
                  <a:pt x="117" y="538"/>
                  <a:pt x="160" y="501"/>
                  <a:pt x="111" y="550"/>
                </a:cubicBezTo>
                <a:cubicBezTo>
                  <a:pt x="119" y="534"/>
                  <a:pt x="117" y="502"/>
                  <a:pt x="135" y="502"/>
                </a:cubicBezTo>
                <a:cubicBezTo>
                  <a:pt x="151" y="502"/>
                  <a:pt x="123" y="534"/>
                  <a:pt x="123" y="550"/>
                </a:cubicBezTo>
                <a:cubicBezTo>
                  <a:pt x="123" y="606"/>
                  <a:pt x="125" y="663"/>
                  <a:pt x="135" y="718"/>
                </a:cubicBezTo>
                <a:cubicBezTo>
                  <a:pt x="138" y="732"/>
                  <a:pt x="153" y="741"/>
                  <a:pt x="159" y="754"/>
                </a:cubicBezTo>
                <a:cubicBezTo>
                  <a:pt x="169" y="777"/>
                  <a:pt x="183" y="826"/>
                  <a:pt x="183" y="826"/>
                </a:cubicBezTo>
                <a:cubicBezTo>
                  <a:pt x="178" y="874"/>
                  <a:pt x="193" y="936"/>
                  <a:pt x="159" y="970"/>
                </a:cubicBezTo>
                <a:cubicBezTo>
                  <a:pt x="141" y="988"/>
                  <a:pt x="57" y="996"/>
                  <a:pt x="27" y="1006"/>
                </a:cubicBezTo>
                <a:cubicBezTo>
                  <a:pt x="19" y="1018"/>
                  <a:pt x="0" y="1028"/>
                  <a:pt x="3" y="1042"/>
                </a:cubicBezTo>
                <a:cubicBezTo>
                  <a:pt x="6" y="1054"/>
                  <a:pt x="26" y="1055"/>
                  <a:pt x="39" y="1054"/>
                </a:cubicBezTo>
                <a:cubicBezTo>
                  <a:pt x="103" y="1051"/>
                  <a:pt x="231" y="1030"/>
                  <a:pt x="231" y="1030"/>
                </a:cubicBezTo>
                <a:cubicBezTo>
                  <a:pt x="362" y="986"/>
                  <a:pt x="199" y="844"/>
                  <a:pt x="315" y="766"/>
                </a:cubicBezTo>
                <a:cubicBezTo>
                  <a:pt x="441" y="808"/>
                  <a:pt x="284" y="957"/>
                  <a:pt x="411" y="1042"/>
                </a:cubicBezTo>
                <a:cubicBezTo>
                  <a:pt x="471" y="1038"/>
                  <a:pt x="533" y="1047"/>
                  <a:pt x="591" y="1030"/>
                </a:cubicBezTo>
                <a:cubicBezTo>
                  <a:pt x="603" y="1027"/>
                  <a:pt x="589" y="1001"/>
                  <a:pt x="579" y="994"/>
                </a:cubicBezTo>
                <a:cubicBezTo>
                  <a:pt x="550" y="973"/>
                  <a:pt x="468" y="964"/>
                  <a:pt x="435" y="958"/>
                </a:cubicBezTo>
                <a:cubicBezTo>
                  <a:pt x="431" y="894"/>
                  <a:pt x="430" y="830"/>
                  <a:pt x="423" y="766"/>
                </a:cubicBezTo>
                <a:cubicBezTo>
                  <a:pt x="422" y="753"/>
                  <a:pt x="404" y="740"/>
                  <a:pt x="411" y="730"/>
                </a:cubicBezTo>
                <a:cubicBezTo>
                  <a:pt x="428" y="707"/>
                  <a:pt x="483" y="682"/>
                  <a:pt x="483" y="682"/>
                </a:cubicBezTo>
                <a:cubicBezTo>
                  <a:pt x="537" y="601"/>
                  <a:pt x="532" y="475"/>
                  <a:pt x="507" y="382"/>
                </a:cubicBezTo>
                <a:cubicBezTo>
                  <a:pt x="503" y="368"/>
                  <a:pt x="489" y="359"/>
                  <a:pt x="483" y="346"/>
                </a:cubicBezTo>
                <a:cubicBezTo>
                  <a:pt x="473" y="323"/>
                  <a:pt x="483" y="282"/>
                  <a:pt x="459" y="274"/>
                </a:cubicBezTo>
                <a:cubicBezTo>
                  <a:pt x="435" y="266"/>
                  <a:pt x="411" y="258"/>
                  <a:pt x="387" y="250"/>
                </a:cubicBezTo>
                <a:cubicBezTo>
                  <a:pt x="375" y="246"/>
                  <a:pt x="351" y="238"/>
                  <a:pt x="351" y="238"/>
                </a:cubicBezTo>
                <a:cubicBezTo>
                  <a:pt x="351" y="238"/>
                  <a:pt x="367" y="214"/>
                  <a:pt x="375" y="202"/>
                </a:cubicBezTo>
                <a:cubicBezTo>
                  <a:pt x="371" y="150"/>
                  <a:pt x="385" y="93"/>
                  <a:pt x="363" y="46"/>
                </a:cubicBezTo>
                <a:cubicBezTo>
                  <a:pt x="352" y="23"/>
                  <a:pt x="291" y="22"/>
                  <a:pt x="291" y="22"/>
                </a:cubicBezTo>
                <a:cubicBezTo>
                  <a:pt x="150" y="33"/>
                  <a:pt x="134" y="0"/>
                  <a:pt x="99" y="106"/>
                </a:cubicBezTo>
                <a:cubicBezTo>
                  <a:pt x="113" y="178"/>
                  <a:pt x="112" y="183"/>
                  <a:pt x="183" y="202"/>
                </a:cubicBezTo>
                <a:cubicBezTo>
                  <a:pt x="215" y="211"/>
                  <a:pt x="279" y="226"/>
                  <a:pt x="279" y="226"/>
                </a:cubicBezTo>
                <a:cubicBezTo>
                  <a:pt x="311" y="222"/>
                  <a:pt x="361" y="243"/>
                  <a:pt x="375" y="214"/>
                </a:cubicBezTo>
                <a:cubicBezTo>
                  <a:pt x="453" y="46"/>
                  <a:pt x="365" y="59"/>
                  <a:pt x="291" y="10"/>
                </a:cubicBezTo>
                <a:cubicBezTo>
                  <a:pt x="251" y="14"/>
                  <a:pt x="211" y="16"/>
                  <a:pt x="171" y="22"/>
                </a:cubicBezTo>
                <a:cubicBezTo>
                  <a:pt x="155" y="24"/>
                  <a:pt x="134" y="21"/>
                  <a:pt x="123" y="34"/>
                </a:cubicBezTo>
                <a:cubicBezTo>
                  <a:pt x="107" y="53"/>
                  <a:pt x="99" y="106"/>
                  <a:pt x="99" y="106"/>
                </a:cubicBezTo>
                <a:cubicBezTo>
                  <a:pt x="119" y="304"/>
                  <a:pt x="115" y="252"/>
                  <a:pt x="339" y="238"/>
                </a:cubicBezTo>
                <a:cubicBezTo>
                  <a:pt x="399" y="258"/>
                  <a:pt x="371" y="238"/>
                  <a:pt x="399" y="322"/>
                </a:cubicBezTo>
                <a:cubicBezTo>
                  <a:pt x="403" y="334"/>
                  <a:pt x="407" y="346"/>
                  <a:pt x="411" y="358"/>
                </a:cubicBezTo>
                <a:cubicBezTo>
                  <a:pt x="415" y="370"/>
                  <a:pt x="423" y="394"/>
                  <a:pt x="423" y="394"/>
                </a:cubicBezTo>
                <a:cubicBezTo>
                  <a:pt x="427" y="486"/>
                  <a:pt x="420" y="579"/>
                  <a:pt x="435" y="670"/>
                </a:cubicBezTo>
                <a:cubicBezTo>
                  <a:pt x="437" y="684"/>
                  <a:pt x="471" y="694"/>
                  <a:pt x="471" y="694"/>
                </a:cubicBezTo>
                <a:lnTo>
                  <a:pt x="375" y="646"/>
                </a:lnTo>
                <a:lnTo>
                  <a:pt x="471" y="694"/>
                </a:lnTo>
              </a:path>
            </a:pathLst>
          </a:custGeom>
          <a:solidFill>
            <a:srgbClr val="ffcc66"/>
          </a:solidFill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787920"/>
            <a:ext cx="9144000" cy="288720"/>
          </a:xfrm>
          <a:prstGeom prst="bracketPair">
            <a:avLst>
              <a:gd name="adj" fmla="val 17129"/>
            </a:avLst>
          </a:prstGeom>
          <a:blipFill rotWithShape="0">
            <a:blip r:embed="rId1">
              <a:alphaModFix amt="60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209" name="_s51237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210" name="_s51238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_s51239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_s51240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_s51241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_s51242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15" name="_s51243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216" name="_s51244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217" name="_s51245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98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199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200" dur="1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0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0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6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7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208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209" dur="1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1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1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5000"/>
                            </p:stCondLst>
                            <p:childTnLst>
                              <p:par>
                                <p:cTn id="218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220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221" dur="1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2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2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2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9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005360" y="2565360"/>
            <a:ext cx="1071360" cy="2158920"/>
          </a:xfrm>
          <a:custGeom>
            <a:avLst/>
            <a:gdLst>
              <a:gd name="textAreaLeft" fmla="*/ 186480 w 1071360"/>
              <a:gd name="textAreaRight" fmla="*/ 763200 w 1071360"/>
              <a:gd name="textAreaTop" fmla="*/ 470520 h 2158920"/>
              <a:gd name="textAreaBottom" fmla="*/ 168840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494" y="2761"/>
                  <a:pt x="15388" y="5080"/>
                  <a:pt x="15388" y="10800"/>
                </a:cubicBezTo>
                <a:cubicBezTo>
                  <a:pt x="15388" y="16520"/>
                  <a:pt x="18494" y="188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ORÇAS E V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1476000" y="1892160"/>
            <a:ext cx="6119640" cy="671760"/>
            <a:chOff x="1476000" y="1892160"/>
            <a:chExt cx="6119640" cy="671760"/>
          </a:xfrm>
        </p:grpSpPr>
        <p:sp>
          <p:nvSpPr>
            <p:cNvPr id="221" name="_s53253"/>
            <p:cNvSpPr/>
            <p:nvPr/>
          </p:nvSpPr>
          <p:spPr>
            <a:xfrm>
              <a:off x="1476000" y="1892160"/>
              <a:ext cx="6119640" cy="671760"/>
            </a:xfrm>
            <a:prstGeom prst="roundRect">
              <a:avLst>
                <a:gd name="adj" fmla="val 16667"/>
              </a:avLst>
            </a:prstGeom>
            <a:solidFill>
              <a:srgbClr val="00b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ENSAMENTO   ELETRICIDADE    MAGNETISM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1979640" y="3141720"/>
            <a:ext cx="5329080" cy="1008000"/>
            <a:chOff x="1979640" y="3141720"/>
            <a:chExt cx="5329080" cy="1008000"/>
          </a:xfrm>
        </p:grpSpPr>
        <p:sp>
          <p:nvSpPr>
            <p:cNvPr id="223" name="_s53256"/>
            <p:cNvSpPr/>
            <p:nvPr/>
          </p:nvSpPr>
          <p:spPr>
            <a:xfrm>
              <a:off x="1979640" y="3141720"/>
              <a:ext cx="5329080" cy="1008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ffff"/>
                  </a:solidFill>
                  <a:latin typeface="Arial"/>
                </a:rPr>
                <a:t>Conjugam-s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M TODAS AS MANIFESTAÇÕE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A VIDA UNIVERSAL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40000" y="4724280"/>
            <a:ext cx="8134560" cy="1297080"/>
            <a:chOff x="540000" y="4724280"/>
            <a:chExt cx="8134560" cy="1297080"/>
          </a:xfrm>
        </p:grpSpPr>
        <p:sp>
          <p:nvSpPr>
            <p:cNvPr id="225" name="_s53259"/>
            <p:cNvSpPr/>
            <p:nvPr/>
          </p:nvSpPr>
          <p:spPr>
            <a:xfrm>
              <a:off x="540000" y="4724280"/>
              <a:ext cx="8134560" cy="1297080"/>
            </a:xfrm>
            <a:prstGeom prst="roundRect">
              <a:avLst>
                <a:gd name="adj" fmla="val 19574"/>
              </a:avLst>
            </a:prstGeom>
            <a:solidFill>
              <a:srgbClr val="ffe701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RIAND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Gravitação e Afinidad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ssimilação e desassimilação,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S CAMPOS MÚLTIPLOS DA FORM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228" name="_s53291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229" name="_s53292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_s53293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_s53294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_s53295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_s53296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34" name="_s53297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235" name="_s53298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236" name="_s53299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0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241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242" dur="1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48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250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251" dur="1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5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5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000"/>
                            </p:stCondLst>
                            <p:childTnLst>
                              <p:par>
                                <p:cTn id="258" nodeType="afterEffect" fill="hold" presetClass="emph" presetID="3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259" dur="1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260" dur="1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261" dur="1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6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6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4005360" y="2565360"/>
            <a:ext cx="1071360" cy="2158920"/>
          </a:xfrm>
          <a:custGeom>
            <a:avLst/>
            <a:gdLst>
              <a:gd name="textAreaLeft" fmla="*/ 186480 w 1071360"/>
              <a:gd name="textAreaRight" fmla="*/ 763200 w 1071360"/>
              <a:gd name="textAreaTop" fmla="*/ 470520 h 2158920"/>
              <a:gd name="textAreaBottom" fmla="*/ 168840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494" y="2761"/>
                  <a:pt x="15388" y="5080"/>
                  <a:pt x="15388" y="10800"/>
                </a:cubicBezTo>
                <a:cubicBezTo>
                  <a:pt x="15388" y="16520"/>
                  <a:pt x="18494" y="188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ORÇAS E FORM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1618920" y="1892160"/>
            <a:ext cx="5832360" cy="671760"/>
            <a:chOff x="1618920" y="1892160"/>
            <a:chExt cx="5832360" cy="671760"/>
          </a:xfrm>
        </p:grpSpPr>
        <p:sp>
          <p:nvSpPr>
            <p:cNvPr id="240" name="_s54277"/>
            <p:cNvSpPr/>
            <p:nvPr/>
          </p:nvSpPr>
          <p:spPr>
            <a:xfrm>
              <a:off x="1618920" y="1892160"/>
              <a:ext cx="5832360" cy="671760"/>
            </a:xfrm>
            <a:prstGeom prst="roundRect">
              <a:avLst>
                <a:gd name="adj" fmla="val 16667"/>
              </a:avLst>
            </a:prstGeom>
            <a:solidFill>
              <a:srgbClr val="00b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S CAMPOS MÚLTIPLOS DA FORM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2987640" y="3141720"/>
            <a:ext cx="3024360" cy="1008000"/>
            <a:chOff x="2987640" y="3141720"/>
            <a:chExt cx="3024360" cy="1008000"/>
          </a:xfrm>
        </p:grpSpPr>
        <p:sp>
          <p:nvSpPr>
            <p:cNvPr id="242" name="_s54280"/>
            <p:cNvSpPr/>
            <p:nvPr/>
          </p:nvSpPr>
          <p:spPr>
            <a:xfrm>
              <a:off x="2987640" y="3141720"/>
              <a:ext cx="3024360" cy="1008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SERVE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 A ROMAGE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O ESPÍRITO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2124000" y="4724280"/>
            <a:ext cx="4896000" cy="1081080"/>
            <a:chOff x="2124000" y="4724280"/>
            <a:chExt cx="4896000" cy="1081080"/>
          </a:xfrm>
        </p:grpSpPr>
        <p:sp>
          <p:nvSpPr>
            <p:cNvPr id="244" name="_s54283"/>
            <p:cNvSpPr/>
            <p:nvPr/>
          </p:nvSpPr>
          <p:spPr>
            <a:xfrm>
              <a:off x="2124000" y="4724280"/>
              <a:ext cx="4896000" cy="1081080"/>
            </a:xfrm>
            <a:prstGeom prst="roundRect">
              <a:avLst>
                <a:gd name="adj" fmla="val 19574"/>
              </a:avLst>
            </a:prstGeom>
            <a:solidFill>
              <a:srgbClr val="ffe701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ARA AS METAS SUPREM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RAÇADAS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PELO PLANO DIVIN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5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247" name="_s54305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248" name="_s54306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_s54307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_s54308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_s54309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_s54310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53" name="_s54311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254" name="_s54312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255" name="_s54313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0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272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273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274" dur="1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7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1" dur="1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282" dur="1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283" dur="1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8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8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mph" presetID="3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291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292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293" dur="1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005360" y="2565360"/>
            <a:ext cx="1071360" cy="2158920"/>
          </a:xfrm>
          <a:custGeom>
            <a:avLst/>
            <a:gdLst>
              <a:gd name="textAreaLeft" fmla="*/ 186480 w 1071360"/>
              <a:gd name="textAreaRight" fmla="*/ 763200 w 1071360"/>
              <a:gd name="textAreaTop" fmla="*/ 470520 h 2158920"/>
              <a:gd name="textAreaBottom" fmla="*/ 168840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494" y="2761"/>
                  <a:pt x="15388" y="5080"/>
                  <a:pt x="15388" y="10800"/>
                </a:cubicBezTo>
                <a:cubicBezTo>
                  <a:pt x="15388" y="16520"/>
                  <a:pt x="18494" y="188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FORÇAS E VONT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618920" y="1892160"/>
            <a:ext cx="5832360" cy="671760"/>
            <a:chOff x="1618920" y="1892160"/>
            <a:chExt cx="5832360" cy="671760"/>
          </a:xfrm>
        </p:grpSpPr>
        <p:sp>
          <p:nvSpPr>
            <p:cNvPr id="259" name="_s55301"/>
            <p:cNvSpPr/>
            <p:nvPr/>
          </p:nvSpPr>
          <p:spPr>
            <a:xfrm>
              <a:off x="1618920" y="1892160"/>
              <a:ext cx="5832360" cy="671760"/>
            </a:xfrm>
            <a:prstGeom prst="roundRect">
              <a:avLst>
                <a:gd name="adj" fmla="val 16667"/>
              </a:avLst>
            </a:prstGeom>
            <a:solidFill>
              <a:srgbClr val="00b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 CÉREBRO PRODUZ A ENERGIA MENT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987640" y="3141720"/>
            <a:ext cx="3024360" cy="1008000"/>
            <a:chOff x="2987640" y="3141720"/>
            <a:chExt cx="3024360" cy="1008000"/>
          </a:xfrm>
        </p:grpSpPr>
        <p:sp>
          <p:nvSpPr>
            <p:cNvPr id="261" name="_s55304"/>
            <p:cNvSpPr/>
            <p:nvPr/>
          </p:nvSpPr>
          <p:spPr>
            <a:xfrm>
              <a:off x="2987640" y="3141720"/>
              <a:ext cx="3024360" cy="1008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A VONTAD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EMOS O CONTROLE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A SUA DIREÇÃO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195640" y="4724280"/>
            <a:ext cx="4824360" cy="1081080"/>
            <a:chOff x="2195640" y="4724280"/>
            <a:chExt cx="4824360" cy="1081080"/>
          </a:xfrm>
        </p:grpSpPr>
        <p:sp>
          <p:nvSpPr>
            <p:cNvPr id="263" name="_s55307"/>
            <p:cNvSpPr/>
            <p:nvPr/>
          </p:nvSpPr>
          <p:spPr>
            <a:xfrm>
              <a:off x="2195640" y="4724280"/>
              <a:ext cx="4824360" cy="1081080"/>
            </a:xfrm>
            <a:prstGeom prst="roundRect">
              <a:avLst>
                <a:gd name="adj" fmla="val 19574"/>
              </a:avLst>
            </a:prstGeom>
            <a:solidFill>
              <a:srgbClr val="ffe701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ESTABELECENDO CAUSA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QUE COMANDAM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S PROBLEMAS DO DESTINO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266" name="_s55326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267" name="_s55327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_s55328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_s55329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_s55330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_s55331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72" name="_s55332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273" name="_s55333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274" name="_s55334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09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310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311" dur="1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1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1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1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7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8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319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320" dur="1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2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2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2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2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500"/>
                            </p:stCondLst>
                            <p:childTnLst>
                              <p:par>
                                <p:cTn id="327" nodeType="afterEffect" fill="hold" presetClass="emph" presetID="3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328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329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330" dur="1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31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2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3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4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4005360" y="2565360"/>
            <a:ext cx="1071360" cy="2158920"/>
          </a:xfrm>
          <a:custGeom>
            <a:avLst/>
            <a:gdLst>
              <a:gd name="textAreaLeft" fmla="*/ 186480 w 1071360"/>
              <a:gd name="textAreaRight" fmla="*/ 763200 w 1071360"/>
              <a:gd name="textAreaTop" fmla="*/ 470520 h 2158920"/>
              <a:gd name="textAreaBottom" fmla="*/ 168840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8494" y="2761"/>
                  <a:pt x="15388" y="5080"/>
                  <a:pt x="15388" y="10800"/>
                </a:cubicBezTo>
                <a:cubicBezTo>
                  <a:pt x="15388" y="16520"/>
                  <a:pt x="18494" y="1883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908000" y="1413000"/>
            <a:ext cx="5399280" cy="4608360"/>
          </a:xfrm>
          <a:prstGeom prst="ellipse">
            <a:avLst/>
          </a:prstGeom>
          <a:gradFill rotWithShape="0">
            <a:gsLst>
              <a:gs pos="0">
                <a:srgbClr val="000082">
                  <a:alpha val="16078"/>
                </a:srgbClr>
              </a:gs>
              <a:gs pos="50000">
                <a:srgbClr val="ff8200"/>
              </a:gs>
              <a:gs pos="100000">
                <a:srgbClr val="000082">
                  <a:alpha val="1607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VONTADE E MOVIM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618920" y="1892160"/>
            <a:ext cx="5832360" cy="671760"/>
            <a:chOff x="1618920" y="1892160"/>
            <a:chExt cx="5832360" cy="671760"/>
          </a:xfrm>
        </p:grpSpPr>
        <p:sp>
          <p:nvSpPr>
            <p:cNvPr id="279" name="_s56325"/>
            <p:cNvSpPr/>
            <p:nvPr/>
          </p:nvSpPr>
          <p:spPr>
            <a:xfrm>
              <a:off x="1618920" y="1892160"/>
              <a:ext cx="5832360" cy="671760"/>
            </a:xfrm>
            <a:prstGeom prst="roundRect">
              <a:avLst>
                <a:gd name="adj" fmla="val 16667"/>
              </a:avLst>
            </a:prstGeom>
            <a:solidFill>
              <a:srgbClr val="00b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 VONTADE É O IMPACTO DETERMINAN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2195640" y="4724280"/>
            <a:ext cx="4752720" cy="1081080"/>
            <a:chOff x="2195640" y="4724280"/>
            <a:chExt cx="4752720" cy="1081080"/>
          </a:xfrm>
        </p:grpSpPr>
        <p:sp>
          <p:nvSpPr>
            <p:cNvPr id="281" name="_s56331"/>
            <p:cNvSpPr/>
            <p:nvPr/>
          </p:nvSpPr>
          <p:spPr>
            <a:xfrm>
              <a:off x="2195640" y="4724280"/>
              <a:ext cx="4752720" cy="1081080"/>
            </a:xfrm>
            <a:prstGeom prst="roundRect">
              <a:avLst>
                <a:gd name="adj" fmla="val 19574"/>
              </a:avLst>
            </a:prstGeom>
            <a:solidFill>
              <a:srgbClr val="ffe701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NELA DISPOMOS DO BOTÃ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PODEROSO QUE DECIDE O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MOVIMENTO OU A INÉRCIA DA MÁQUIN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637080" y="2781360"/>
            <a:ext cx="1871640" cy="1871640"/>
          </a:xfrm>
          <a:custGeom>
            <a:avLst/>
            <a:gdLst>
              <a:gd name="textAreaLeft" fmla="*/ 427320 w 1871640"/>
              <a:gd name="textAreaRight" fmla="*/ 1444320 w 1871640"/>
              <a:gd name="textAreaTop" fmla="*/ 427320 h 1871640"/>
              <a:gd name="textAreaBottom" fmla="*/ 144432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4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285" name="_s56352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286" name="_s56353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_s56354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_s56355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_s56356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_s56357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291" name="_s56358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292" name="_s56359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293" name="_s56360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350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351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352" dur="1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0"/>
                            </p:stCondLst>
                            <p:childTnLst>
                              <p:par>
                                <p:cTn id="359" nodeType="afterEffect" fill="hold" presetClass="emph" presetID="3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360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361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362" dur="1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6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6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7500"/>
                            </p:stCondLst>
                            <p:childTnLst>
                              <p:par>
                                <p:cTn id="369" nodeType="after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74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9" presetSubtype="10" repeatCount="indefinite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2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2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_s1039"/>
          <p:cNvSpPr/>
          <p:nvPr/>
        </p:nvSpPr>
        <p:spPr>
          <a:xfrm>
            <a:off x="2600280" y="1484280"/>
            <a:ext cx="3916440" cy="720720"/>
          </a:xfrm>
          <a:prstGeom prst="roundRect">
            <a:avLst>
              <a:gd name="adj" fmla="val 50000"/>
            </a:avLst>
          </a:prstGeom>
          <a:solidFill>
            <a:srgbClr val="004442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160" bIns="2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XXXXXX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_s1041"/>
          <p:cNvSpPr/>
          <p:nvPr/>
        </p:nvSpPr>
        <p:spPr>
          <a:xfrm>
            <a:off x="1187280" y="2924280"/>
            <a:ext cx="1295640" cy="792000"/>
          </a:xfrm>
          <a:prstGeom prst="roundRect">
            <a:avLst>
              <a:gd name="adj" fmla="val 16667"/>
            </a:avLst>
          </a:prstGeom>
          <a:solidFill>
            <a:srgbClr val="ffe701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20" rIns="6120" tIns="3240" bIns="3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e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6" name="_s1038"/>
          <p:cNvCxnSpPr>
            <a:stCxn id="294" idx="2"/>
            <a:endCxn id="295" idx="0"/>
          </p:cNvCxnSpPr>
          <p:nvPr/>
        </p:nvCxnSpPr>
        <p:spPr>
          <a:xfrm rot="5400000">
            <a:off x="2836800" y="1202400"/>
            <a:ext cx="720000" cy="2724840"/>
          </a:xfrm>
          <a:prstGeom prst="bentConnector3">
            <a:avLst>
              <a:gd name="adj1" fmla="val 4987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97" name=""/>
          <p:cNvSpPr/>
          <p:nvPr/>
        </p:nvSpPr>
        <p:spPr>
          <a:xfrm>
            <a:off x="179280" y="3789360"/>
            <a:ext cx="2376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e                          comprar ao engano                        aflitivos séculos de reparação e sofrim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_s1041"/>
          <p:cNvSpPr/>
          <p:nvPr/>
        </p:nvSpPr>
        <p:spPr>
          <a:xfrm>
            <a:off x="2700360" y="2924280"/>
            <a:ext cx="1657440" cy="792000"/>
          </a:xfrm>
          <a:prstGeom prst="roundRect">
            <a:avLst>
              <a:gd name="adj" fmla="val 16667"/>
            </a:avLst>
          </a:prstGeom>
          <a:solidFill>
            <a:srgbClr val="ffe701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20" rIns="6120" tIns="3240" bIns="3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ligê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9" name="_s1038"/>
          <p:cNvCxnSpPr>
            <a:stCxn id="294" idx="2"/>
            <a:endCxn id="298" idx="0"/>
          </p:cNvCxnSpPr>
          <p:nvPr/>
        </p:nvCxnSpPr>
        <p:spPr>
          <a:xfrm rot="5400000">
            <a:off x="3683880" y="2049480"/>
            <a:ext cx="720000" cy="1031040"/>
          </a:xfrm>
          <a:prstGeom prst="bentConnector3">
            <a:avLst>
              <a:gd name="adj1" fmla="val 4987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0" name=""/>
          <p:cNvSpPr/>
          <p:nvPr/>
        </p:nvSpPr>
        <p:spPr>
          <a:xfrm>
            <a:off x="2411280" y="3789360"/>
            <a:ext cx="266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e       aprisionar-se na criminalidad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_s1041"/>
          <p:cNvSpPr/>
          <p:nvPr/>
        </p:nvSpPr>
        <p:spPr>
          <a:xfrm>
            <a:off x="4933800" y="2924280"/>
            <a:ext cx="1584360" cy="792000"/>
          </a:xfrm>
          <a:prstGeom prst="roundRect">
            <a:avLst>
              <a:gd name="adj" fmla="val 16667"/>
            </a:avLst>
          </a:prstGeom>
          <a:solidFill>
            <a:srgbClr val="ffe701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20" rIns="6120" tIns="3240" bIns="3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in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2" name="_s1038"/>
          <p:cNvCxnSpPr>
            <a:stCxn id="294" idx="2"/>
            <a:endCxn id="301" idx="0"/>
          </p:cNvCxnSpPr>
          <p:nvPr/>
        </p:nvCxnSpPr>
        <p:spPr>
          <a:xfrm flipH="1" rot="16200000">
            <a:off x="4782240" y="1981080"/>
            <a:ext cx="720000" cy="1167480"/>
          </a:xfrm>
          <a:prstGeom prst="bentConnector3">
            <a:avLst>
              <a:gd name="adj1" fmla="val 4987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3" name=""/>
          <p:cNvSpPr/>
          <p:nvPr/>
        </p:nvSpPr>
        <p:spPr>
          <a:xfrm>
            <a:off x="4282920" y="3789360"/>
            <a:ext cx="2305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e gerar perigosos monstros                na                     somb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_s1041"/>
          <p:cNvSpPr/>
          <p:nvPr/>
        </p:nvSpPr>
        <p:spPr>
          <a:xfrm>
            <a:off x="6880320" y="2924280"/>
            <a:ext cx="1365120" cy="792000"/>
          </a:xfrm>
          <a:prstGeom prst="roundRect">
            <a:avLst>
              <a:gd name="adj" fmla="val 16667"/>
            </a:avLst>
          </a:prstGeom>
          <a:solidFill>
            <a:srgbClr val="ffe701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20" rIns="6120" tIns="3240" bIns="3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05" name="_s1038"/>
          <p:cNvCxnSpPr>
            <a:stCxn id="294" idx="2"/>
            <a:endCxn id="304" idx="0"/>
          </p:cNvCxnSpPr>
          <p:nvPr/>
        </p:nvCxnSpPr>
        <p:spPr>
          <a:xfrm flipH="1" rot="16200000">
            <a:off x="5700600" y="1062720"/>
            <a:ext cx="720000" cy="3004200"/>
          </a:xfrm>
          <a:prstGeom prst="bentConnector3">
            <a:avLst>
              <a:gd name="adj1" fmla="val 4987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6588000" y="3789360"/>
            <a:ext cx="223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e cair em deplorável relaxamen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Sem a VONT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310" name="_s57375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311" name="_s57376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_s57377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_s57378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_s57379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_s57380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16" name="_s57381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317" name="_s57382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318" name="_s57383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60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2600"/>
                            </p:stCondLst>
                            <p:childTnLst>
                              <p:par>
                                <p:cTn id="39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7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420"/>
                            </p:stCondLst>
                            <p:childTnLst>
                              <p:par>
                                <p:cTn id="40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7620"/>
                            </p:stCondLst>
                            <p:childTnLst>
                              <p:par>
                                <p:cTn id="4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9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fill="hold">
                            <p:stCondLst>
                              <p:cond delay="8620"/>
                            </p:stCondLst>
                            <p:childTnLst>
                              <p:par>
                                <p:cTn id="411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3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5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440"/>
                            </p:stCondLst>
                            <p:childTnLst>
                              <p:par>
                                <p:cTn id="41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2440"/>
                            </p:stCondLst>
                            <p:childTnLst>
                              <p:par>
                                <p:cTn id="4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6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3440"/>
                            </p:stCondLst>
                            <p:childTnLst>
                              <p:par>
                                <p:cTn id="428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2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5340"/>
                            </p:stCondLst>
                            <p:childTnLst>
                              <p:par>
                                <p:cTn id="434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704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8040"/>
                            </p:stCondLst>
                            <p:childTnLst>
                              <p:par>
                                <p:cTn id="44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8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9" dur="8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VONTADE E HARMONIA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908000" y="4869000"/>
            <a:ext cx="5400720" cy="1081080"/>
            <a:chOff x="1908000" y="4869000"/>
            <a:chExt cx="5400720" cy="1081080"/>
          </a:xfrm>
        </p:grpSpPr>
        <p:sp>
          <p:nvSpPr>
            <p:cNvPr id="321" name="_s58376"/>
            <p:cNvSpPr/>
            <p:nvPr/>
          </p:nvSpPr>
          <p:spPr>
            <a:xfrm>
              <a:off x="1908000" y="4869000"/>
              <a:ext cx="5400720" cy="1081080"/>
            </a:xfrm>
            <a:prstGeom prst="roundRect">
              <a:avLst>
                <a:gd name="adj" fmla="val 19574"/>
              </a:avLst>
            </a:prstGeom>
            <a:solidFill>
              <a:srgbClr val="ffe701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SÓ A VONTAD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É SUFICIENTEMENTE FORT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PARA SUSTENTAR A HARMONIA DO ESPÍRIT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>
            <a:off x="2995560" y="2421000"/>
            <a:ext cx="1071720" cy="2295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656" y="666"/>
                  <a:pt x="3712" y="5080"/>
                  <a:pt x="3712" y="10800"/>
                </a:cubicBezTo>
                <a:cubicBezTo>
                  <a:pt x="3712" y="16520"/>
                  <a:pt x="12656" y="20934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H="1" rot="21591000">
            <a:off x="4932000" y="2420640"/>
            <a:ext cx="1081080" cy="2292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194" y="859"/>
                  <a:pt x="4788" y="5080"/>
                  <a:pt x="4788" y="10800"/>
                </a:cubicBezTo>
                <a:cubicBezTo>
                  <a:pt x="4788" y="16520"/>
                  <a:pt x="13194" y="207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564000" y="2781360"/>
            <a:ext cx="1871640" cy="1871640"/>
          </a:xfrm>
          <a:custGeom>
            <a:avLst/>
            <a:gdLst>
              <a:gd name="textAreaLeft" fmla="*/ 427320 w 1871640"/>
              <a:gd name="textAreaRight" fmla="*/ 1444320 w 1871640"/>
              <a:gd name="textAreaTop" fmla="*/ 427320 h 1871640"/>
              <a:gd name="textAreaBottom" fmla="*/ 144432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nt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327" name="_s58395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328" name="_s58396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_s58397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_s58398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_s58399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_s58400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33" name="_s58401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334" name="_s58402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335" name="_s58403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5000"/>
                            </p:stCondLst>
                            <p:childTnLst>
                              <p:par>
                                <p:cTn id="463" nodeType="afterEffect" fill="hold" presetClass="emph" presetID="3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64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465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466" dur="1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67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68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69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70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7500"/>
                            </p:stCondLst>
                            <p:childTnLst>
                              <p:par>
                                <p:cTn id="473" nodeType="after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997440" y="1085760"/>
            <a:ext cx="475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A NÃO CONSEGUE IMPEDIR                                 A REFLEXÃO MENTAL                                                   QUANDO SE TRATE DA CONEXÃO                                    ENTRE OS SEMELHA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987640" y="2924280"/>
            <a:ext cx="1944720" cy="180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79280" y="2421000"/>
            <a:ext cx="2952720" cy="2448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780000" y="3068640"/>
            <a:ext cx="3671640" cy="3240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95640" y="4292640"/>
            <a:ext cx="1511280" cy="1584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7640" y="2421000"/>
            <a:ext cx="865080" cy="936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148360" y="4221000"/>
            <a:ext cx="865080" cy="863640"/>
          </a:xfrm>
          <a:custGeom>
            <a:avLst/>
            <a:gdLst>
              <a:gd name="textAreaLeft" fmla="*/ 136800 w 865080"/>
              <a:gd name="textAreaRight" fmla="*/ 728280 w 865080"/>
              <a:gd name="textAreaTop" fmla="*/ 136440 h 863640"/>
              <a:gd name="textAreaBottom" fmla="*/ 7272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498920" y="2565360"/>
            <a:ext cx="720720" cy="649440"/>
          </a:xfrm>
          <a:custGeom>
            <a:avLst/>
            <a:gdLst>
              <a:gd name="textAreaLeft" fmla="*/ 113760 w 720720"/>
              <a:gd name="textAreaRight" fmla="*/ 606960 w 720720"/>
              <a:gd name="textAreaTop" fmla="*/ 102600 h 649440"/>
              <a:gd name="textAreaBottom" fmla="*/ 54684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276720" y="3141720"/>
            <a:ext cx="1368360" cy="1295280"/>
          </a:xfrm>
          <a:custGeom>
            <a:avLst/>
            <a:gdLst>
              <a:gd name="textAreaLeft" fmla="*/ 216360 w 1368360"/>
              <a:gd name="textAreaRight" fmla="*/ 1152000 w 1368360"/>
              <a:gd name="textAreaTop" fmla="*/ 204840 h 1295280"/>
              <a:gd name="textAreaBottom" fmla="*/ 109044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411280" y="4508640"/>
            <a:ext cx="1079640" cy="1081080"/>
          </a:xfrm>
          <a:custGeom>
            <a:avLst/>
            <a:gdLst>
              <a:gd name="textAreaLeft" fmla="*/ 170640 w 1079640"/>
              <a:gd name="textAreaRight" fmla="*/ 909000 w 1079640"/>
              <a:gd name="textAreaTop" fmla="*/ 171000 h 1081080"/>
              <a:gd name="textAreaBottom" fmla="*/ 91008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258920" y="3213000"/>
            <a:ext cx="865080" cy="863640"/>
          </a:xfrm>
          <a:custGeom>
            <a:avLst/>
            <a:gdLst>
              <a:gd name="textAreaLeft" fmla="*/ 136800 w 865080"/>
              <a:gd name="textAreaRight" fmla="*/ 728280 w 865080"/>
              <a:gd name="textAreaTop" fmla="*/ 136440 h 863640"/>
              <a:gd name="textAreaBottom" fmla="*/ 7272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995640" y="1100160"/>
            <a:ext cx="4248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ELA NÃO CONSEGUE IMPEDIR                                            A REFLEXÃO MENTAL                                                                                                                        QUANDO SE TRATE DA CONEXÃO                                ENTRE OS SEMELHANTES                        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e701"/>
                </a:solidFill>
                <a:latin typeface="Arial"/>
              </a:rPr>
              <a:t>     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115920"/>
            <a:ext cx="9144000" cy="93672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VONTADE E SINTON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643280" y="2889360"/>
            <a:ext cx="288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ffff"/>
                </a:solidFill>
                <a:latin typeface="Arial"/>
              </a:rPr>
              <a:t>SINTONIA                                                                          É LEI INDERROGÁVEL</a:t>
            </a:r>
            <a:r>
              <a:rPr b="0" lang="en-US" sz="2400" spc="-1" strike="noStrike">
                <a:solidFill>
                  <a:srgbClr val="006866"/>
                </a:solidFill>
                <a:latin typeface="Arial"/>
              </a:rPr>
              <a:t>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352" name="_s12322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353" name="_s12323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_s12324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_s12325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_s12326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_s12327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58" name="_s12328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359" name="_s12329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360" name="_s12330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afterEffect" fill="hold" presetClass="entr" presetID="27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48"/>
                                  </p:iterate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5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6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7,111,109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7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3680"/>
                            </p:stCondLst>
                            <p:childTnLst>
                              <p:par>
                                <p:cTn id="489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4" dur="2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6" dur="2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7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8" dur="2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99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0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1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02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03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04" dur="500" fill="hold"/>
                                        <p:tgtEl>
                                          <p:spTgt spid="342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50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06" dur="500" fill="hold"/>
                                        <p:tgtEl>
                                          <p:spTgt spid="34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7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08" dur="500" fill="hold"/>
                                        <p:tgtEl>
                                          <p:spTgt spid="3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09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10" dur="500" fill="hold"/>
                                        <p:tgtEl>
                                          <p:spTgt spid="3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1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512" dur="500" fill="hold"/>
                                        <p:tgtEl>
                                          <p:spTgt spid="346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51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4" dur="2000" fill="hold"/>
                                        <p:tgtEl>
                                          <p:spTgt spid="33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6" dur="2000" fill="hold"/>
                                        <p:tgtEl>
                                          <p:spTgt spid="34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18" dur="2000" fill="hold"/>
                                        <p:tgtEl>
                                          <p:spTgt spid="33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0" dur="2000" fill="hold"/>
                                        <p:tgtEl>
                                          <p:spTgt spid="34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22" dur="2000" fill="hold"/>
                                        <p:tgtEl>
                                          <p:spTgt spid="33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7680"/>
                            </p:stCondLst>
                            <p:childTnLst>
                              <p:par>
                                <p:cTn id="524" nodeType="afterEffect" fill="hold" presetClass="emph" presetID="36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2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8630"/>
                            </p:stCondLst>
                            <p:childTnLst>
                              <p:par>
                                <p:cTn id="530" nodeType="afterEffect" fill="hold" presetClass="emph" presetID="36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3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3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9580"/>
                            </p:stCondLst>
                            <p:childTnLst>
                              <p:par>
                                <p:cTn id="536" nodeType="afterEffect" fill="hold" presetClass="emph" presetID="36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3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3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530"/>
                            </p:stCondLst>
                            <p:childTnLst>
                              <p:par>
                                <p:cTn id="542" nodeType="afterEffect" fill="hold" presetClass="emph" presetID="36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4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4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1480"/>
                            </p:stCondLst>
                            <p:childTnLst>
                              <p:par>
                                <p:cTn id="548" nodeType="afterEffect" fill="hold" presetClass="emph" presetID="36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5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1474920" y="3696480"/>
            <a:ext cx="6265440" cy="1568520"/>
            <a:chOff x="1474920" y="3696480"/>
            <a:chExt cx="6265440" cy="1568520"/>
          </a:xfrm>
        </p:grpSpPr>
        <p:sp>
          <p:nvSpPr>
            <p:cNvPr id="362" name="_s5147"/>
            <p:cNvSpPr/>
            <p:nvPr/>
          </p:nvSpPr>
          <p:spPr>
            <a:xfrm>
              <a:off x="3719160" y="3696480"/>
              <a:ext cx="1776600" cy="61920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DMINISTRAD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63" name="_s5143"/>
            <p:cNvCxnSpPr>
              <a:stCxn id="364" idx="0"/>
              <a:endCxn id="362" idx="2"/>
            </p:cNvCxnSpPr>
            <p:nvPr/>
          </p:nvCxnSpPr>
          <p:spPr>
            <a:xfrm flipV="1" rot="16200000">
              <a:off x="5650200" y="3273120"/>
              <a:ext cx="374400" cy="2458800"/>
            </a:xfrm>
            <a:prstGeom prst="bentConnector3">
              <a:avLst>
                <a:gd name="adj1" fmla="val 499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5" name="_s5144"/>
            <p:cNvCxnSpPr>
              <a:stCxn id="366" idx="0"/>
              <a:endCxn id="362" idx="2"/>
            </p:cNvCxnSpPr>
            <p:nvPr/>
          </p:nvCxnSpPr>
          <p:spPr>
            <a:xfrm flipV="1" rot="16200000">
              <a:off x="4830480" y="4092840"/>
              <a:ext cx="374400" cy="819360"/>
            </a:xfrm>
            <a:prstGeom prst="bentConnector3">
              <a:avLst>
                <a:gd name="adj1" fmla="val 499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7" name="_s5145"/>
            <p:cNvCxnSpPr>
              <a:stCxn id="368" idx="0"/>
              <a:endCxn id="362" idx="2"/>
            </p:cNvCxnSpPr>
            <p:nvPr/>
          </p:nvCxnSpPr>
          <p:spPr>
            <a:xfrm flipH="1" flipV="1" rot="5400000">
              <a:off x="4010760" y="4092120"/>
              <a:ext cx="374400" cy="821160"/>
            </a:xfrm>
            <a:prstGeom prst="bentConnector3">
              <a:avLst>
                <a:gd name="adj1" fmla="val 499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369" name="_s5146"/>
            <p:cNvCxnSpPr>
              <a:stCxn id="370" idx="0"/>
              <a:endCxn id="362" idx="2"/>
            </p:cNvCxnSpPr>
            <p:nvPr/>
          </p:nvCxnSpPr>
          <p:spPr>
            <a:xfrm flipH="1" flipV="1" rot="5400000">
              <a:off x="3191040" y="3272400"/>
              <a:ext cx="374400" cy="2460600"/>
            </a:xfrm>
            <a:prstGeom prst="bentConnector3">
              <a:avLst>
                <a:gd name="adj1" fmla="val 49951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370" name="_s5148"/>
            <p:cNvSpPr/>
            <p:nvPr/>
          </p:nvSpPr>
          <p:spPr>
            <a:xfrm>
              <a:off x="1474920" y="4689720"/>
              <a:ext cx="1347480" cy="57528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_s5149"/>
            <p:cNvSpPr/>
            <p:nvPr/>
          </p:nvSpPr>
          <p:spPr>
            <a:xfrm>
              <a:off x="3114000" y="4689720"/>
              <a:ext cx="1347480" cy="57528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_s5150"/>
            <p:cNvSpPr/>
            <p:nvPr/>
          </p:nvSpPr>
          <p:spPr>
            <a:xfrm>
              <a:off x="4753440" y="4689720"/>
              <a:ext cx="1347480" cy="57528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_s5151"/>
            <p:cNvSpPr/>
            <p:nvPr/>
          </p:nvSpPr>
          <p:spPr>
            <a:xfrm>
              <a:off x="6392880" y="4689720"/>
              <a:ext cx="1347480" cy="575280"/>
            </a:xfrm>
            <a:prstGeom prst="roundRect">
              <a:avLst>
                <a:gd name="adj" fmla="val 16667"/>
              </a:avLst>
            </a:prstGeom>
            <a:solidFill>
              <a:srgbClr val="3366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8320" rIns="5832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635280" y="3141720"/>
            <a:ext cx="1871640" cy="1871640"/>
          </a:xfrm>
          <a:custGeom>
            <a:avLst/>
            <a:gdLst>
              <a:gd name="textAreaLeft" fmla="*/ 427320 w 1871640"/>
              <a:gd name="textAreaRight" fmla="*/ 1444320 w 1871640"/>
              <a:gd name="textAreaTop" fmla="*/ 427320 h 1871640"/>
              <a:gd name="textAreaBottom" fmla="*/ 1444320 h 1871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nt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340000" y="1844640"/>
            <a:ext cx="4464000" cy="4321080"/>
          </a:xfrm>
          <a:custGeom>
            <a:avLst/>
            <a:gdLst>
              <a:gd name="textAreaLeft" fmla="*/ 684000 w 4464000"/>
              <a:gd name="textAreaRight" fmla="*/ 3780000 w 4464000"/>
              <a:gd name="textAreaTop" fmla="*/ 662040 h 4321080"/>
              <a:gd name="textAreaBottom" fmla="*/ 3659040 h 4321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47" y="11723"/>
                </a:lnTo>
                <a:lnTo>
                  <a:pt x="198" y="12861"/>
                </a:lnTo>
                <a:lnTo>
                  <a:pt x="617" y="13720"/>
                </a:lnTo>
                <a:lnTo>
                  <a:pt x="786" y="14846"/>
                </a:lnTo>
                <a:lnTo>
                  <a:pt x="1447" y="15773"/>
                </a:lnTo>
                <a:lnTo>
                  <a:pt x="1742" y="16682"/>
                </a:lnTo>
                <a:lnTo>
                  <a:pt x="2568" y="17466"/>
                </a:lnTo>
                <a:lnTo>
                  <a:pt x="3163" y="18437"/>
                </a:lnTo>
                <a:lnTo>
                  <a:pt x="3991" y="18915"/>
                </a:lnTo>
                <a:lnTo>
                  <a:pt x="4761" y="19754"/>
                </a:lnTo>
                <a:lnTo>
                  <a:pt x="5664" y="20065"/>
                </a:lnTo>
                <a:lnTo>
                  <a:pt x="6580" y="20741"/>
                </a:lnTo>
                <a:lnTo>
                  <a:pt x="7703" y="20930"/>
                </a:lnTo>
                <a:lnTo>
                  <a:pt x="8555" y="21364"/>
                </a:lnTo>
                <a:lnTo>
                  <a:pt x="9693" y="21335"/>
                </a:lnTo>
                <a:lnTo>
                  <a:pt x="10800" y="21600"/>
                </a:lnTo>
                <a:lnTo>
                  <a:pt x="11723" y="21353"/>
                </a:lnTo>
                <a:lnTo>
                  <a:pt x="12861" y="21402"/>
                </a:lnTo>
                <a:lnTo>
                  <a:pt x="13720" y="20983"/>
                </a:lnTo>
                <a:lnTo>
                  <a:pt x="14846" y="20814"/>
                </a:lnTo>
                <a:lnTo>
                  <a:pt x="15773" y="20153"/>
                </a:lnTo>
                <a:lnTo>
                  <a:pt x="16682" y="19858"/>
                </a:lnTo>
                <a:lnTo>
                  <a:pt x="17466" y="19032"/>
                </a:lnTo>
                <a:lnTo>
                  <a:pt x="18437" y="18437"/>
                </a:lnTo>
                <a:lnTo>
                  <a:pt x="18915" y="17609"/>
                </a:lnTo>
                <a:lnTo>
                  <a:pt x="19754" y="16839"/>
                </a:lnTo>
                <a:lnTo>
                  <a:pt x="20065" y="15936"/>
                </a:lnTo>
                <a:lnTo>
                  <a:pt x="20741" y="15020"/>
                </a:lnTo>
                <a:lnTo>
                  <a:pt x="20930" y="13897"/>
                </a:lnTo>
                <a:lnTo>
                  <a:pt x="21364" y="13045"/>
                </a:lnTo>
                <a:lnTo>
                  <a:pt x="21335" y="11907"/>
                </a:lnTo>
                <a:lnTo>
                  <a:pt x="21600" y="10800"/>
                </a:lnTo>
                <a:lnTo>
                  <a:pt x="21353" y="9877"/>
                </a:lnTo>
                <a:lnTo>
                  <a:pt x="21402" y="8739"/>
                </a:lnTo>
                <a:lnTo>
                  <a:pt x="20983" y="7880"/>
                </a:lnTo>
                <a:lnTo>
                  <a:pt x="20814" y="6754"/>
                </a:lnTo>
                <a:lnTo>
                  <a:pt x="20153" y="5827"/>
                </a:lnTo>
                <a:lnTo>
                  <a:pt x="19858" y="4918"/>
                </a:lnTo>
                <a:lnTo>
                  <a:pt x="19032" y="4134"/>
                </a:lnTo>
                <a:lnTo>
                  <a:pt x="18437" y="3163"/>
                </a:lnTo>
                <a:lnTo>
                  <a:pt x="17609" y="2685"/>
                </a:lnTo>
                <a:lnTo>
                  <a:pt x="16839" y="1846"/>
                </a:lnTo>
                <a:lnTo>
                  <a:pt x="15936" y="1535"/>
                </a:lnTo>
                <a:lnTo>
                  <a:pt x="15020" y="859"/>
                </a:lnTo>
                <a:lnTo>
                  <a:pt x="13897" y="670"/>
                </a:lnTo>
                <a:lnTo>
                  <a:pt x="13045" y="236"/>
                </a:lnTo>
                <a:lnTo>
                  <a:pt x="11907" y="265"/>
                </a:lnTo>
                <a:lnTo>
                  <a:pt x="10800" y="0"/>
                </a:lnTo>
                <a:lnTo>
                  <a:pt x="9877" y="247"/>
                </a:lnTo>
                <a:lnTo>
                  <a:pt x="8739" y="198"/>
                </a:lnTo>
                <a:lnTo>
                  <a:pt x="7880" y="617"/>
                </a:lnTo>
                <a:lnTo>
                  <a:pt x="6754" y="786"/>
                </a:lnTo>
                <a:lnTo>
                  <a:pt x="5827" y="1447"/>
                </a:lnTo>
                <a:lnTo>
                  <a:pt x="4918" y="1742"/>
                </a:lnTo>
                <a:lnTo>
                  <a:pt x="4134" y="2568"/>
                </a:lnTo>
                <a:lnTo>
                  <a:pt x="3163" y="3163"/>
                </a:lnTo>
                <a:lnTo>
                  <a:pt x="2685" y="3991"/>
                </a:lnTo>
                <a:lnTo>
                  <a:pt x="1846" y="4761"/>
                </a:lnTo>
                <a:lnTo>
                  <a:pt x="1535" y="5664"/>
                </a:lnTo>
                <a:lnTo>
                  <a:pt x="859" y="6580"/>
                </a:lnTo>
                <a:lnTo>
                  <a:pt x="670" y="7703"/>
                </a:lnTo>
                <a:lnTo>
                  <a:pt x="236" y="8555"/>
                </a:lnTo>
                <a:lnTo>
                  <a:pt x="265" y="9693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50000">
                <a:srgbClr val="55261c">
                  <a:alpha val="59215"/>
                </a:srgbClr>
              </a:gs>
              <a:gs pos="100000">
                <a:srgbClr val="dcebf5">
                  <a:alpha val="0"/>
                </a:srgbClr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4140360" y="3573360"/>
            <a:ext cx="865080" cy="863640"/>
          </a:xfrm>
          <a:prstGeom prst="ellipse">
            <a:avLst/>
          </a:pr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635920" y="3765600"/>
            <a:ext cx="424080" cy="626760"/>
          </a:xfrm>
          <a:prstGeom prst="line">
            <a:avLst/>
          </a:prstGeom>
          <a:ln w="5724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187280" y="2637000"/>
            <a:ext cx="15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DE IMPOR O JUGO DA DISCIP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437080" y="2743200"/>
            <a:ext cx="23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 OS MANTER COESOS NA CORRENTE                   DO B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5963400" y="3812760"/>
            <a:ext cx="637560" cy="554760"/>
          </a:xfrm>
          <a:prstGeom prst="line">
            <a:avLst/>
          </a:prstGeom>
          <a:ln w="57240">
            <a:solidFill>
              <a:srgbClr val="ffe7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348000" y="213984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OS ELEMENTOS                   QUE  ADMINISTRA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763560"/>
            <a:ext cx="9144000" cy="93672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VONTADE E DISCIPLIN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382" name="_s5167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383" name="_s5168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_s5169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_s5170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_s5171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_s5172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388" name="_s5173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389" name="_s5174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390" name="_s5175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59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6" repeatCount="indefinite">
                                  <p:stCondLst>
                                    <p:cond delay="2000"/>
                                  </p:stCondLst>
                                  <p:childTnLst>
                                    <p:animScale>
                                      <p:cBhvr>
                                        <p:cTn id="562" dur="500" fill="hold"/>
                                        <p:tgtEl>
                                          <p:spTgt spid="37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  <p:par>
                                <p:cTn id="56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5" dur="250" autoRev="1" fill="hold"/>
                                        <p:tgtEl>
                                          <p:spTgt spid="3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2500"/>
                            </p:stCondLst>
                            <p:childTnLst>
                              <p:par>
                                <p:cTn id="567" nodeType="afterEffect" fill="hold" presetClass="entr" presetID="23" presetSubtype="16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7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/>
          <p:nvPr/>
        </p:nvSpPr>
        <p:spPr>
          <a:xfrm>
            <a:off x="3059280" y="1628640"/>
            <a:ext cx="1008000" cy="1440000"/>
          </a:xfrm>
          <a:prstGeom prst="rect">
            <a:avLst/>
          </a:pr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2635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Pensamento e Vid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393" name="" descr="Saiba mais sobre Pensamento e Vi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987640" y="1568520"/>
            <a:ext cx="952560" cy="1428840"/>
          </a:xfrm>
          <a:prstGeom prst="rect">
            <a:avLst/>
          </a:prstGeom>
          <a:ln w="0">
            <a:noFill/>
          </a:ln>
          <a:effectLst>
            <a:outerShdw dist="153009" dir="2493982" blurRad="0" rotWithShape="0">
              <a:srgbClr val="ffe701">
                <a:alpha val="50000"/>
              </a:srgbClr>
            </a:outerShdw>
          </a:effectLst>
        </p:spPr>
      </p:pic>
      <p:sp>
        <p:nvSpPr>
          <p:cNvPr id="394" name=""/>
          <p:cNvSpPr/>
          <p:nvPr/>
        </p:nvSpPr>
        <p:spPr>
          <a:xfrm>
            <a:off x="4572000" y="3716280"/>
            <a:ext cx="1871640" cy="13683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ffe70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ffff"/>
                </a:solidFill>
                <a:latin typeface="Arial"/>
              </a:rPr>
              <a:t>Cap. </a:t>
            </a:r>
            <a:r>
              <a:rPr b="0" i="1" lang="en-US" sz="4400" spc="-1" strike="noStrike">
                <a:solidFill>
                  <a:srgbClr val="ccffff"/>
                </a:solidFill>
                <a:latin typeface="Arial"/>
              </a:rPr>
              <a:t>2</a:t>
            </a:r>
            <a:br>
              <a:rPr sz="4400"/>
            </a:br>
            <a:r>
              <a:rPr b="0" i="1" lang="en-US" sz="2400" spc="-1" strike="noStrike">
                <a:solidFill>
                  <a:srgbClr val="ccffff"/>
                </a:solidFill>
                <a:latin typeface="Arial"/>
              </a:rPr>
              <a:t>VONT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588000" y="5373720"/>
            <a:ext cx="144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Fi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397" name="_s61461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398" name="_s61462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_s61463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_s61464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_s61465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_s61466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403" name="_s61467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404" name="_s61468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405" name="_s61469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epresentações figurada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7" name="" descr="Saiba mais sobre Pensamento e Vid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549360"/>
            <a:ext cx="952560" cy="1428840"/>
          </a:xfrm>
          <a:prstGeom prst="rect">
            <a:avLst/>
          </a:prstGeom>
          <a:ln w="0">
            <a:noFill/>
          </a:ln>
          <a:effectLst>
            <a:outerShdw dist="153009" dir="2493982" blurRad="0" rotWithShape="0">
              <a:srgbClr val="ffe701">
                <a:alpha val="50000"/>
              </a:srgbClr>
            </a:outerShdw>
          </a:effectLst>
        </p:spPr>
      </p:pic>
      <p:sp>
        <p:nvSpPr>
          <p:cNvPr id="58" name=""/>
          <p:cNvSpPr/>
          <p:nvPr/>
        </p:nvSpPr>
        <p:spPr>
          <a:xfrm flipH="1" rot="21591000">
            <a:off x="5794920" y="2923920"/>
            <a:ext cx="504720" cy="1224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3194" y="859"/>
                  <a:pt x="4788" y="5080"/>
                  <a:pt x="4788" y="10800"/>
                </a:cubicBezTo>
                <a:cubicBezTo>
                  <a:pt x="4788" y="16520"/>
                  <a:pt x="13194" y="20741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NTA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780000" y="2133720"/>
            <a:ext cx="1368360" cy="1296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Men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9280" y="2421000"/>
            <a:ext cx="2592360" cy="230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10800"/>
                </a:moveTo>
                <a:lnTo>
                  <a:pt x="10800" y="10800"/>
                </a:lnTo>
                <a:lnTo>
                  <a:pt x="198" y="12861"/>
                </a:lnTo>
                <a:lnTo>
                  <a:pt x="10800" y="10800"/>
                </a:lnTo>
                <a:lnTo>
                  <a:pt x="786" y="14846"/>
                </a:lnTo>
                <a:lnTo>
                  <a:pt x="10800" y="10800"/>
                </a:lnTo>
                <a:lnTo>
                  <a:pt x="1742" y="16682"/>
                </a:lnTo>
                <a:lnTo>
                  <a:pt x="10800" y="10800"/>
                </a:lnTo>
                <a:lnTo>
                  <a:pt x="3163" y="18437"/>
                </a:lnTo>
                <a:lnTo>
                  <a:pt x="10800" y="10800"/>
                </a:lnTo>
                <a:lnTo>
                  <a:pt x="4761" y="19754"/>
                </a:lnTo>
                <a:lnTo>
                  <a:pt x="10800" y="10800"/>
                </a:lnTo>
                <a:lnTo>
                  <a:pt x="6580" y="20741"/>
                </a:lnTo>
                <a:lnTo>
                  <a:pt x="10800" y="10800"/>
                </a:lnTo>
                <a:lnTo>
                  <a:pt x="8555" y="21364"/>
                </a:lnTo>
                <a:lnTo>
                  <a:pt x="10800" y="10800"/>
                </a:lnTo>
                <a:lnTo>
                  <a:pt x="10800" y="21600"/>
                </a:lnTo>
                <a:lnTo>
                  <a:pt x="10800" y="10800"/>
                </a:lnTo>
                <a:lnTo>
                  <a:pt x="12861" y="21402"/>
                </a:lnTo>
                <a:lnTo>
                  <a:pt x="10800" y="10800"/>
                </a:lnTo>
                <a:lnTo>
                  <a:pt x="14846" y="20814"/>
                </a:lnTo>
                <a:lnTo>
                  <a:pt x="10800" y="10800"/>
                </a:lnTo>
                <a:lnTo>
                  <a:pt x="16682" y="19858"/>
                </a:lnTo>
                <a:lnTo>
                  <a:pt x="10800" y="10800"/>
                </a:lnTo>
                <a:lnTo>
                  <a:pt x="18437" y="18437"/>
                </a:lnTo>
                <a:lnTo>
                  <a:pt x="10800" y="10800"/>
                </a:lnTo>
                <a:lnTo>
                  <a:pt x="19754" y="16839"/>
                </a:lnTo>
                <a:lnTo>
                  <a:pt x="10800" y="10800"/>
                </a:lnTo>
                <a:lnTo>
                  <a:pt x="20741" y="15020"/>
                </a:lnTo>
                <a:lnTo>
                  <a:pt x="10800" y="10800"/>
                </a:lnTo>
                <a:lnTo>
                  <a:pt x="21364" y="13045"/>
                </a:lnTo>
                <a:lnTo>
                  <a:pt x="10800" y="10800"/>
                </a:lnTo>
                <a:lnTo>
                  <a:pt x="21600" y="10800"/>
                </a:lnTo>
                <a:lnTo>
                  <a:pt x="10800" y="10800"/>
                </a:lnTo>
                <a:lnTo>
                  <a:pt x="21402" y="8739"/>
                </a:lnTo>
                <a:lnTo>
                  <a:pt x="10800" y="10800"/>
                </a:lnTo>
                <a:lnTo>
                  <a:pt x="20814" y="6754"/>
                </a:lnTo>
                <a:lnTo>
                  <a:pt x="10800" y="10800"/>
                </a:lnTo>
                <a:lnTo>
                  <a:pt x="19858" y="4918"/>
                </a:lnTo>
                <a:lnTo>
                  <a:pt x="10800" y="10800"/>
                </a:lnTo>
                <a:lnTo>
                  <a:pt x="18437" y="3163"/>
                </a:lnTo>
                <a:lnTo>
                  <a:pt x="10800" y="10800"/>
                </a:lnTo>
                <a:lnTo>
                  <a:pt x="16839" y="1846"/>
                </a:lnTo>
                <a:lnTo>
                  <a:pt x="10800" y="10800"/>
                </a:lnTo>
                <a:lnTo>
                  <a:pt x="15020" y="859"/>
                </a:lnTo>
                <a:lnTo>
                  <a:pt x="10800" y="10800"/>
                </a:lnTo>
                <a:lnTo>
                  <a:pt x="13045" y="236"/>
                </a:lnTo>
                <a:lnTo>
                  <a:pt x="10800" y="10800"/>
                </a:lnTo>
                <a:lnTo>
                  <a:pt x="10800" y="0"/>
                </a:lnTo>
                <a:lnTo>
                  <a:pt x="10800" y="10800"/>
                </a:lnTo>
                <a:lnTo>
                  <a:pt x="8739" y="198"/>
                </a:lnTo>
                <a:lnTo>
                  <a:pt x="10800" y="10800"/>
                </a:lnTo>
                <a:lnTo>
                  <a:pt x="6754" y="786"/>
                </a:lnTo>
                <a:lnTo>
                  <a:pt x="10800" y="10800"/>
                </a:lnTo>
                <a:lnTo>
                  <a:pt x="4918" y="1742"/>
                </a:lnTo>
                <a:lnTo>
                  <a:pt x="10800" y="10800"/>
                </a:lnTo>
                <a:lnTo>
                  <a:pt x="3163" y="3163"/>
                </a:lnTo>
                <a:lnTo>
                  <a:pt x="10800" y="10800"/>
                </a:lnTo>
                <a:lnTo>
                  <a:pt x="1846" y="4761"/>
                </a:lnTo>
                <a:lnTo>
                  <a:pt x="10800" y="10800"/>
                </a:lnTo>
                <a:lnTo>
                  <a:pt x="859" y="6580"/>
                </a:lnTo>
                <a:lnTo>
                  <a:pt x="10800" y="10800"/>
                </a:lnTo>
                <a:lnTo>
                  <a:pt x="236" y="8555"/>
                </a:lnTo>
                <a:lnTo>
                  <a:pt x="10800" y="10800"/>
                </a:lnTo>
                <a:lnTo>
                  <a:pt x="0" y="10800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042920" y="3213000"/>
            <a:ext cx="758880" cy="812880"/>
          </a:xfrm>
          <a:custGeom>
            <a:avLst/>
            <a:gdLst>
              <a:gd name="textAreaLeft" fmla="*/ 119880 w 758880"/>
              <a:gd name="textAreaRight" fmla="*/ 639000 w 758880"/>
              <a:gd name="textAreaTop" fmla="*/ 128520 h 812880"/>
              <a:gd name="textAreaBottom" fmla="*/ 684360 h 812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97" y="11710"/>
                </a:lnTo>
                <a:lnTo>
                  <a:pt x="198" y="12861"/>
                </a:lnTo>
                <a:lnTo>
                  <a:pt x="762" y="13678"/>
                </a:lnTo>
                <a:lnTo>
                  <a:pt x="786" y="14846"/>
                </a:lnTo>
                <a:lnTo>
                  <a:pt x="1579" y="15703"/>
                </a:lnTo>
                <a:lnTo>
                  <a:pt x="1742" y="16682"/>
                </a:lnTo>
                <a:lnTo>
                  <a:pt x="2684" y="17372"/>
                </a:lnTo>
                <a:lnTo>
                  <a:pt x="3163" y="18437"/>
                </a:lnTo>
                <a:lnTo>
                  <a:pt x="4087" y="18800"/>
                </a:lnTo>
                <a:lnTo>
                  <a:pt x="4761" y="19754"/>
                </a:lnTo>
                <a:lnTo>
                  <a:pt x="5737" y="19934"/>
                </a:lnTo>
                <a:lnTo>
                  <a:pt x="6580" y="20741"/>
                </a:lnTo>
                <a:lnTo>
                  <a:pt x="7747" y="20787"/>
                </a:lnTo>
                <a:lnTo>
                  <a:pt x="8555" y="21364"/>
                </a:lnTo>
                <a:lnTo>
                  <a:pt x="9708" y="21186"/>
                </a:lnTo>
                <a:lnTo>
                  <a:pt x="10800" y="21600"/>
                </a:lnTo>
                <a:lnTo>
                  <a:pt x="11710" y="21203"/>
                </a:lnTo>
                <a:lnTo>
                  <a:pt x="12861" y="21402"/>
                </a:lnTo>
                <a:lnTo>
                  <a:pt x="13678" y="20838"/>
                </a:lnTo>
                <a:lnTo>
                  <a:pt x="14846" y="20814"/>
                </a:lnTo>
                <a:lnTo>
                  <a:pt x="15703" y="20021"/>
                </a:lnTo>
                <a:lnTo>
                  <a:pt x="16682" y="19858"/>
                </a:lnTo>
                <a:lnTo>
                  <a:pt x="17372" y="18916"/>
                </a:lnTo>
                <a:lnTo>
                  <a:pt x="18437" y="18437"/>
                </a:lnTo>
                <a:lnTo>
                  <a:pt x="18800" y="17513"/>
                </a:lnTo>
                <a:lnTo>
                  <a:pt x="19754" y="16839"/>
                </a:lnTo>
                <a:lnTo>
                  <a:pt x="19934" y="15863"/>
                </a:lnTo>
                <a:lnTo>
                  <a:pt x="20741" y="15020"/>
                </a:lnTo>
                <a:lnTo>
                  <a:pt x="20787" y="13853"/>
                </a:lnTo>
                <a:lnTo>
                  <a:pt x="21364" y="13045"/>
                </a:lnTo>
                <a:lnTo>
                  <a:pt x="21186" y="11892"/>
                </a:lnTo>
                <a:lnTo>
                  <a:pt x="21600" y="10800"/>
                </a:lnTo>
                <a:lnTo>
                  <a:pt x="21203" y="9890"/>
                </a:lnTo>
                <a:lnTo>
                  <a:pt x="21402" y="8739"/>
                </a:lnTo>
                <a:lnTo>
                  <a:pt x="20838" y="7922"/>
                </a:lnTo>
                <a:lnTo>
                  <a:pt x="20814" y="6754"/>
                </a:lnTo>
                <a:lnTo>
                  <a:pt x="20021" y="5897"/>
                </a:lnTo>
                <a:lnTo>
                  <a:pt x="19858" y="4918"/>
                </a:lnTo>
                <a:lnTo>
                  <a:pt x="18916" y="4228"/>
                </a:lnTo>
                <a:lnTo>
                  <a:pt x="18437" y="3163"/>
                </a:lnTo>
                <a:lnTo>
                  <a:pt x="17513" y="2800"/>
                </a:lnTo>
                <a:lnTo>
                  <a:pt x="16839" y="1846"/>
                </a:lnTo>
                <a:lnTo>
                  <a:pt x="15863" y="1666"/>
                </a:lnTo>
                <a:lnTo>
                  <a:pt x="15020" y="859"/>
                </a:lnTo>
                <a:lnTo>
                  <a:pt x="13853" y="813"/>
                </a:lnTo>
                <a:lnTo>
                  <a:pt x="13045" y="236"/>
                </a:lnTo>
                <a:lnTo>
                  <a:pt x="11892" y="414"/>
                </a:lnTo>
                <a:lnTo>
                  <a:pt x="10800" y="0"/>
                </a:lnTo>
                <a:lnTo>
                  <a:pt x="9890" y="397"/>
                </a:lnTo>
                <a:lnTo>
                  <a:pt x="8739" y="198"/>
                </a:lnTo>
                <a:lnTo>
                  <a:pt x="7922" y="762"/>
                </a:lnTo>
                <a:lnTo>
                  <a:pt x="6754" y="786"/>
                </a:lnTo>
                <a:lnTo>
                  <a:pt x="5897" y="1579"/>
                </a:lnTo>
                <a:lnTo>
                  <a:pt x="4918" y="1742"/>
                </a:lnTo>
                <a:lnTo>
                  <a:pt x="4228" y="2684"/>
                </a:lnTo>
                <a:lnTo>
                  <a:pt x="3163" y="3163"/>
                </a:lnTo>
                <a:lnTo>
                  <a:pt x="2800" y="4087"/>
                </a:lnTo>
                <a:lnTo>
                  <a:pt x="1846" y="4761"/>
                </a:lnTo>
                <a:lnTo>
                  <a:pt x="1666" y="5737"/>
                </a:lnTo>
                <a:lnTo>
                  <a:pt x="859" y="6580"/>
                </a:lnTo>
                <a:lnTo>
                  <a:pt x="813" y="7747"/>
                </a:lnTo>
                <a:lnTo>
                  <a:pt x="236" y="8555"/>
                </a:lnTo>
                <a:lnTo>
                  <a:pt x="414" y="9708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dcebf5">
                  <a:alpha val="0"/>
                </a:srgbClr>
              </a:gs>
              <a:gs pos="100000">
                <a:srgbClr val="55261c"/>
              </a:gs>
            </a:gsLst>
            <a:lin ang="5400000"/>
          </a:gra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 a d i a ç õ e 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 a M e n t 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" dur="250" autoRev="1" fill="hold"/>
                                        <p:tgtEl>
                                          <p:spTgt spid="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2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3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500" fill="hold"/>
                                        <p:tgtEl>
                                          <p:spTgt spid="5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6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6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mph" presetID="36" repeatCount="indefinite">
                                  <p:stCondLst>
                                    <p:cond delay="50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2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2340000" y="3141720"/>
            <a:ext cx="4438800" cy="1295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ff"/>
                </a:solidFill>
                <a:latin typeface="Arial Black"/>
              </a:rPr>
              <a:t>Vontad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ffff"/>
              </a:solidFill>
              <a:latin typeface="Arial Black"/>
              <a:ea typeface="Arial Black"/>
            </a:endParaRPr>
          </a:p>
        </p:txBody>
      </p:sp>
      <p:sp>
        <p:nvSpPr>
          <p:cNvPr id="63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65" name="_s3102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66" name="_s3103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_s3104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_s3105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_s3106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_s3107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1" name="_s3108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72" name="_s3109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73" name="_s3110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771640" y="2205000"/>
            <a:ext cx="3672000" cy="3529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050920" y="2781360"/>
            <a:ext cx="5112000" cy="23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 mente                                    é como                                 um grande escritório com diversas seções de serviço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114640" y="1052640"/>
            <a:ext cx="4978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Compar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79" name="_s20501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80" name="_s20502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_s20503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_s20504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_s20505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_s20506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85" name="_s20507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86" name="_s20508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87" name="_s20509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" dur="250" autoRev="1" fill="hold"/>
                                        <p:tgtEl>
                                          <p:spTgt spid="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5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 grande escritório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1031760" y="2133720"/>
            <a:ext cx="7068960" cy="2687400"/>
            <a:chOff x="1031760" y="2133720"/>
            <a:chExt cx="7068960" cy="2687400"/>
          </a:xfrm>
        </p:grpSpPr>
        <p:cxnSp>
          <p:nvCxnSpPr>
            <p:cNvPr id="90" name="_s33798"/>
            <p:cNvCxnSpPr/>
            <p:nvPr/>
          </p:nvCxnSpPr>
          <p:spPr>
            <a:xfrm flipV="1" rot="16200000">
              <a:off x="5555880" y="1868040"/>
              <a:ext cx="769320" cy="2737080"/>
            </a:xfrm>
            <a:prstGeom prst="bentConnector3">
              <a:avLst>
                <a:gd name="adj1" fmla="val 43586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1" name="_s33799"/>
            <p:cNvCxnSpPr/>
            <p:nvPr/>
          </p:nvCxnSpPr>
          <p:spPr>
            <a:xfrm flipV="1" rot="16200000">
              <a:off x="4650480" y="2772720"/>
              <a:ext cx="793080" cy="951480"/>
            </a:xfrm>
            <a:prstGeom prst="bentConnector3">
              <a:avLst>
                <a:gd name="adj1" fmla="val 45049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2" name="_s33800"/>
            <p:cNvCxnSpPr/>
            <p:nvPr/>
          </p:nvCxnSpPr>
          <p:spPr>
            <a:xfrm flipH="1" flipV="1" rot="5400000">
              <a:off x="3716640" y="2770560"/>
              <a:ext cx="793080" cy="956160"/>
            </a:xfrm>
            <a:prstGeom prst="bentConnector3">
              <a:avLst>
                <a:gd name="adj1" fmla="val 44641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93" name="_s33801"/>
            <p:cNvCxnSpPr/>
            <p:nvPr/>
          </p:nvCxnSpPr>
          <p:spPr>
            <a:xfrm flipH="1" flipV="1" rot="5400000">
              <a:off x="3072960" y="2045880"/>
              <a:ext cx="337320" cy="2813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94" name="_s33802"/>
            <p:cNvSpPr/>
            <p:nvPr/>
          </p:nvSpPr>
          <p:spPr>
            <a:xfrm>
              <a:off x="3132000" y="2133720"/>
              <a:ext cx="2952720" cy="7189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Arial"/>
                </a:rPr>
                <a:t>DEPARTAMENTOS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_s33803"/>
            <p:cNvSpPr/>
            <p:nvPr/>
          </p:nvSpPr>
          <p:spPr>
            <a:xfrm>
              <a:off x="1031760" y="3621240"/>
              <a:ext cx="1595520" cy="11761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esej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_s33804"/>
            <p:cNvSpPr/>
            <p:nvPr/>
          </p:nvSpPr>
          <p:spPr>
            <a:xfrm>
              <a:off x="2771640" y="3645000"/>
              <a:ext cx="1762200" cy="11761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teligênci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_s33805"/>
            <p:cNvSpPr/>
            <p:nvPr/>
          </p:nvSpPr>
          <p:spPr>
            <a:xfrm>
              <a:off x="4716360" y="3645000"/>
              <a:ext cx="1684440" cy="11761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maginaçã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_s33806"/>
            <p:cNvSpPr/>
            <p:nvPr/>
          </p:nvSpPr>
          <p:spPr>
            <a:xfrm>
              <a:off x="6588000" y="3621240"/>
              <a:ext cx="1512720" cy="11761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óri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99" name="_s1028"/>
            <p:cNvCxnSpPr/>
            <p:nvPr/>
          </p:nvCxnSpPr>
          <p:spPr>
            <a:xfrm rot="10800000">
              <a:off x="5364000" y="3283920"/>
              <a:ext cx="2737080" cy="21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</a:ln>
          </p:spPr>
        </p:cxnSp>
      </p:grpSp>
      <p:sp>
        <p:nvSpPr>
          <p:cNvPr id="100" name=""/>
          <p:cNvSpPr/>
          <p:nvPr/>
        </p:nvSpPr>
        <p:spPr>
          <a:xfrm>
            <a:off x="7308720" y="292428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outros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103" name="_s33824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104" name="_s33825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_s33826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_s33827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33828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33829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09" name="_s33830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110" name="_s33831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111" name="_s33832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_s1039"/>
          <p:cNvSpPr/>
          <p:nvPr/>
        </p:nvSpPr>
        <p:spPr>
          <a:xfrm>
            <a:off x="2600280" y="1484280"/>
            <a:ext cx="3916440" cy="720720"/>
          </a:xfrm>
          <a:prstGeom prst="roundRect">
            <a:avLst>
              <a:gd name="adj" fmla="val 50000"/>
            </a:avLst>
          </a:prstGeom>
          <a:solidFill>
            <a:srgbClr val="ffe701">
              <a:alpha val="2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4680" rIns="4680" tIns="2160" bIns="216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ções”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os Departament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_s1041"/>
          <p:cNvSpPr/>
          <p:nvPr/>
        </p:nvSpPr>
        <p:spPr>
          <a:xfrm>
            <a:off x="1187280" y="2924280"/>
            <a:ext cx="1295640" cy="792000"/>
          </a:xfrm>
          <a:prstGeom prst="roundRect">
            <a:avLst>
              <a:gd name="adj" fmla="val 16667"/>
            </a:avLst>
          </a:prstGeom>
          <a:solidFill>
            <a:srgbClr val="ffe701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20" rIns="6120" tIns="3240" bIns="3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ej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4" name="_s1038"/>
          <p:cNvCxnSpPr>
            <a:stCxn id="112" idx="2"/>
            <a:endCxn id="113" idx="0"/>
          </p:cNvCxnSpPr>
          <p:nvPr/>
        </p:nvCxnSpPr>
        <p:spPr>
          <a:xfrm rot="5400000">
            <a:off x="2836800" y="1202400"/>
            <a:ext cx="720000" cy="2724840"/>
          </a:xfrm>
          <a:prstGeom prst="bentConnector3">
            <a:avLst>
              <a:gd name="adj1" fmla="val 4987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179280" y="3789360"/>
            <a:ext cx="2376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 marL="277560" indent="-27756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pera                          os propósitos                        e as aspirações  acalentando                       o estímulo                          ao trabalh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_s1041"/>
          <p:cNvSpPr/>
          <p:nvPr/>
        </p:nvSpPr>
        <p:spPr>
          <a:xfrm>
            <a:off x="2700360" y="2924280"/>
            <a:ext cx="1657440" cy="792000"/>
          </a:xfrm>
          <a:prstGeom prst="roundRect">
            <a:avLst>
              <a:gd name="adj" fmla="val 16667"/>
            </a:avLst>
          </a:prstGeom>
          <a:solidFill>
            <a:srgbClr val="ffe701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20" rIns="6120" tIns="3240" bIns="3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ligê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17" name="_s1038"/>
          <p:cNvCxnSpPr>
            <a:stCxn id="112" idx="2"/>
            <a:endCxn id="116" idx="0"/>
          </p:cNvCxnSpPr>
          <p:nvPr/>
        </p:nvCxnSpPr>
        <p:spPr>
          <a:xfrm rot="5400000">
            <a:off x="3683880" y="2049480"/>
            <a:ext cx="720000" cy="1031040"/>
          </a:xfrm>
          <a:prstGeom prst="bentConnector3">
            <a:avLst>
              <a:gd name="adj1" fmla="val 4987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2411280" y="3789360"/>
            <a:ext cx="266400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lata                             os                         patrimônios                   da evolução                                      e                                                   da cultu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_s1041"/>
          <p:cNvSpPr/>
          <p:nvPr/>
        </p:nvSpPr>
        <p:spPr>
          <a:xfrm>
            <a:off x="4933800" y="2924280"/>
            <a:ext cx="1584360" cy="792000"/>
          </a:xfrm>
          <a:prstGeom prst="roundRect">
            <a:avLst>
              <a:gd name="adj" fmla="val 16667"/>
            </a:avLst>
          </a:prstGeom>
          <a:solidFill>
            <a:srgbClr val="ffe701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20" rIns="6120" tIns="3240" bIns="3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aginaçã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0" name="_s1038"/>
          <p:cNvCxnSpPr>
            <a:stCxn id="112" idx="2"/>
            <a:endCxn id="119" idx="0"/>
          </p:cNvCxnSpPr>
          <p:nvPr/>
        </p:nvCxnSpPr>
        <p:spPr>
          <a:xfrm flipH="1" rot="16200000">
            <a:off x="4782240" y="1981080"/>
            <a:ext cx="720000" cy="1167480"/>
          </a:xfrm>
          <a:prstGeom prst="bentConnector3">
            <a:avLst>
              <a:gd name="adj1" fmla="val 4987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282920" y="3789360"/>
            <a:ext cx="230508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08520" indent="-30852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amealha                                   as riquezas                         do ideal                                e da          sensibilida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_s1041"/>
          <p:cNvSpPr/>
          <p:nvPr/>
        </p:nvSpPr>
        <p:spPr>
          <a:xfrm>
            <a:off x="6880320" y="2924280"/>
            <a:ext cx="1365120" cy="792000"/>
          </a:xfrm>
          <a:prstGeom prst="roundRect">
            <a:avLst>
              <a:gd name="adj" fmla="val 16667"/>
            </a:avLst>
          </a:prstGeom>
          <a:solidFill>
            <a:srgbClr val="ffe701">
              <a:alpha val="2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6120" rIns="6120" tIns="3240" bIns="32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mó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23" name="_s1038"/>
          <p:cNvCxnSpPr>
            <a:stCxn id="112" idx="2"/>
            <a:endCxn id="122" idx="0"/>
          </p:cNvCxnSpPr>
          <p:nvPr/>
        </p:nvCxnSpPr>
        <p:spPr>
          <a:xfrm flipH="1" rot="16200000">
            <a:off x="5700600" y="1062720"/>
            <a:ext cx="720000" cy="3004200"/>
          </a:xfrm>
          <a:prstGeom prst="bentConnector3">
            <a:avLst>
              <a:gd name="adj1" fmla="val 49874"/>
            </a:avLst>
          </a:prstGeom>
          <a:ln w="381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588000" y="3789360"/>
            <a:ext cx="22320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quiva                                                                    as súmulas                                            da experiênc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127" name="_s52256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128" name="_s52257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_s52258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_s52259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_s52260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_s52261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33" name="_s52262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134" name="_s52263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135" name="_s52264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6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600"/>
                            </p:stCondLst>
                            <p:childTnLst>
                              <p:par>
                                <p:cTn id="62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7040"/>
                            </p:stCondLst>
                            <p:childTnLst>
                              <p:par>
                                <p:cTn id="68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9240"/>
                            </p:stCondLst>
                            <p:childTnLst>
                              <p:par>
                                <p:cTn id="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240"/>
                            </p:stCondLst>
                            <p:childTnLst>
                              <p:par>
                                <p:cTn id="79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" dur="8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3840"/>
                            </p:stCondLst>
                            <p:childTnLst>
                              <p:par>
                                <p:cTn id="8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840"/>
                            </p:stCondLst>
                            <p:childTnLst>
                              <p:par>
                                <p:cTn id="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684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600"/>
                            </p:stCondLst>
                            <p:childTnLst>
                              <p:par>
                                <p:cTn id="102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23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3300"/>
                            </p:stCondLst>
                            <p:childTnLst>
                              <p:par>
                                <p:cTn id="113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 gerência                                             do grande escritório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031760" y="2133720"/>
            <a:ext cx="7068960" cy="2687400"/>
            <a:chOff x="1031760" y="2133720"/>
            <a:chExt cx="7068960" cy="2687400"/>
          </a:xfrm>
        </p:grpSpPr>
        <p:cxnSp>
          <p:nvCxnSpPr>
            <p:cNvPr id="138" name="_s47109"/>
            <p:cNvCxnSpPr/>
            <p:nvPr/>
          </p:nvCxnSpPr>
          <p:spPr>
            <a:xfrm flipV="1" rot="16200000">
              <a:off x="5627160" y="1868040"/>
              <a:ext cx="769320" cy="2737080"/>
            </a:xfrm>
            <a:prstGeom prst="bentConnector3">
              <a:avLst>
                <a:gd name="adj1" fmla="val 44616"/>
              </a:avLst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</p:cxnSp>
        <p:cxnSp>
          <p:nvCxnSpPr>
            <p:cNvPr id="139" name="_s47110"/>
            <p:cNvCxnSpPr/>
            <p:nvPr/>
          </p:nvCxnSpPr>
          <p:spPr>
            <a:xfrm flipV="1" rot="16200000">
              <a:off x="4721760" y="2772720"/>
              <a:ext cx="793080" cy="951480"/>
            </a:xfrm>
            <a:prstGeom prst="bentConnector3">
              <a:avLst>
                <a:gd name="adj1" fmla="val 45049"/>
              </a:avLst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</p:cxnSp>
        <p:cxnSp>
          <p:nvCxnSpPr>
            <p:cNvPr id="140" name="_s47111"/>
            <p:cNvCxnSpPr/>
            <p:nvPr/>
          </p:nvCxnSpPr>
          <p:spPr>
            <a:xfrm flipH="1" flipV="1" rot="5400000">
              <a:off x="3768840" y="2770200"/>
              <a:ext cx="793080" cy="956520"/>
            </a:xfrm>
            <a:prstGeom prst="bentConnector3">
              <a:avLst>
                <a:gd name="adj1" fmla="val 46866"/>
              </a:avLst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</p:cxnSp>
        <p:cxnSp>
          <p:nvCxnSpPr>
            <p:cNvPr id="141" name="_s47112"/>
            <p:cNvCxnSpPr/>
            <p:nvPr/>
          </p:nvCxnSpPr>
          <p:spPr>
            <a:xfrm flipH="1" flipV="1" rot="5400000">
              <a:off x="3068280" y="2045880"/>
              <a:ext cx="337320" cy="2813760"/>
            </a:xfrm>
            <a:prstGeom prst="bentConnector2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</a:ln>
          </p:spPr>
        </p:cxnSp>
        <p:sp>
          <p:nvSpPr>
            <p:cNvPr id="142" name="_s47113"/>
            <p:cNvSpPr/>
            <p:nvPr/>
          </p:nvSpPr>
          <p:spPr>
            <a:xfrm>
              <a:off x="3203280" y="2133720"/>
              <a:ext cx="2808360" cy="7189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Arial"/>
                </a:rPr>
                <a:t>GABINETE 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ffffff"/>
                  </a:solidFill>
                  <a:latin typeface="Arial"/>
                </a:rPr>
                <a:t>Da Vontade</a:t>
              </a:r>
              <a:endParaRPr b="0" lang="en-US" sz="25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_s47114"/>
            <p:cNvSpPr/>
            <p:nvPr/>
          </p:nvSpPr>
          <p:spPr>
            <a:xfrm>
              <a:off x="1031760" y="3621240"/>
              <a:ext cx="1595520" cy="11761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1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Desej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_s47115"/>
            <p:cNvSpPr/>
            <p:nvPr/>
          </p:nvSpPr>
          <p:spPr>
            <a:xfrm>
              <a:off x="2771640" y="3645000"/>
              <a:ext cx="1762200" cy="11761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nteligênci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_s47116"/>
            <p:cNvSpPr/>
            <p:nvPr/>
          </p:nvSpPr>
          <p:spPr>
            <a:xfrm>
              <a:off x="4716360" y="3645000"/>
              <a:ext cx="1684440" cy="11761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Imaginação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_s47117"/>
            <p:cNvSpPr/>
            <p:nvPr/>
          </p:nvSpPr>
          <p:spPr>
            <a:xfrm>
              <a:off x="6588000" y="3621240"/>
              <a:ext cx="1512720" cy="117612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emóri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154560" y="1916280"/>
            <a:ext cx="2449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Governa                                             todos os setores                       da ação mental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150" name="_s47134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151" name="_s47135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_s47136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_s47137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_s47138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_s47139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56" name="_s47140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157" name="_s47141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158" name="_s47142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A VONT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195280" y="1892160"/>
            <a:ext cx="4536720" cy="671760"/>
            <a:chOff x="2195280" y="1892160"/>
            <a:chExt cx="4536720" cy="671760"/>
          </a:xfrm>
        </p:grpSpPr>
        <p:sp>
          <p:nvSpPr>
            <p:cNvPr id="161" name="_s21509"/>
            <p:cNvSpPr/>
            <p:nvPr/>
          </p:nvSpPr>
          <p:spPr>
            <a:xfrm>
              <a:off x="2195280" y="1892160"/>
              <a:ext cx="4536720" cy="671760"/>
            </a:xfrm>
            <a:prstGeom prst="roundRect">
              <a:avLst>
                <a:gd name="adj" fmla="val 16667"/>
              </a:avLst>
            </a:prstGeom>
            <a:solidFill>
              <a:srgbClr val="00b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É a gerência esclarecida e vigilan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2411280" y="2924280"/>
            <a:ext cx="4105440" cy="714240"/>
            <a:chOff x="2411280" y="2924280"/>
            <a:chExt cx="4105440" cy="714240"/>
          </a:xfrm>
        </p:grpSpPr>
        <p:sp>
          <p:nvSpPr>
            <p:cNvPr id="163" name="_s21512"/>
            <p:cNvSpPr/>
            <p:nvPr/>
          </p:nvSpPr>
          <p:spPr>
            <a:xfrm>
              <a:off x="2411280" y="2924280"/>
              <a:ext cx="4105440" cy="71424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0040" rIns="50040" tIns="24840" bIns="248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É auréola luminosa da razã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40000" y="4723920"/>
            <a:ext cx="8134560" cy="792000"/>
            <a:chOff x="540000" y="4723920"/>
            <a:chExt cx="8134560" cy="792000"/>
          </a:xfrm>
        </p:grpSpPr>
        <p:sp>
          <p:nvSpPr>
            <p:cNvPr id="165" name="_s21515"/>
            <p:cNvSpPr/>
            <p:nvPr/>
          </p:nvSpPr>
          <p:spPr>
            <a:xfrm>
              <a:off x="540000" y="4723920"/>
              <a:ext cx="8134560" cy="792000"/>
            </a:xfrm>
            <a:prstGeom prst="roundRect">
              <a:avLst>
                <a:gd name="adj" fmla="val 19574"/>
              </a:avLst>
            </a:prstGeom>
            <a:solidFill>
              <a:srgbClr val="ffe701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ffffff"/>
                  </a:solidFill>
                  <a:latin typeface="Arial"/>
                </a:rPr>
                <a:t>É concessão da Divina Providência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"/>
                </a:rPr>
                <a:t>Após a multimilenária viagem do ser pelas províncias do instin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 rot="20378400">
            <a:off x="6600960" y="2278080"/>
            <a:ext cx="1079280" cy="2663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260" y="524"/>
                  <a:pt x="2919" y="5080"/>
                  <a:pt x="2919" y="10800"/>
                </a:cubicBezTo>
                <a:cubicBezTo>
                  <a:pt x="2919" y="16520"/>
                  <a:pt x="12260" y="2107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 rot="1221600">
            <a:off x="1258560" y="2276640"/>
            <a:ext cx="1079640" cy="26632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2260" y="524"/>
                  <a:pt x="2919" y="5080"/>
                  <a:pt x="2919" y="10800"/>
                </a:cubicBezTo>
                <a:cubicBezTo>
                  <a:pt x="2919" y="16520"/>
                  <a:pt x="12260" y="21076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3366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170" name="_s21537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171" name="_s21538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_s21539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_s21540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_s21541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_s21542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76" name="_s21543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177" name="_s21544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178" name="_s21545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131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132" dur="1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3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3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3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141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142" dur="1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4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4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4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mph" presetID="3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50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151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152" dur="1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5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5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5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3419640" y="2576520"/>
            <a:ext cx="1071360" cy="2220840"/>
          </a:xfrm>
          <a:custGeom>
            <a:avLst/>
            <a:gdLst>
              <a:gd name="textAreaLeft" fmla="*/ 1440 w 1071360"/>
              <a:gd name="textAreaRight" fmla="*/ 836640 w 1071360"/>
              <a:gd name="textAreaTop" fmla="*/ 1050480 h 2220840"/>
              <a:gd name="textAreaBottom" fmla="*/ 1170360 h 2220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9232" y="3025"/>
                  <a:pt x="16864" y="5080"/>
                  <a:pt x="16864" y="10800"/>
                </a:cubicBezTo>
                <a:cubicBezTo>
                  <a:pt x="16864" y="16520"/>
                  <a:pt x="19232" y="18575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68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333360"/>
            <a:ext cx="9144000" cy="936720"/>
          </a:xfrm>
          <a:prstGeom prst="rect">
            <a:avLst/>
          </a:prstGeom>
          <a:solidFill>
            <a:srgbClr val="b2b2b2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38080" indent="-83808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ffff"/>
                </a:solidFill>
                <a:latin typeface="Arial"/>
              </a:rPr>
              <a:t>IMPORTÂNCIA DA VONTA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3490560" y="1892160"/>
            <a:ext cx="2160360" cy="671760"/>
            <a:chOff x="3490560" y="1892160"/>
            <a:chExt cx="2160360" cy="671760"/>
          </a:xfrm>
        </p:grpSpPr>
        <p:sp>
          <p:nvSpPr>
            <p:cNvPr id="182" name="_s50181"/>
            <p:cNvSpPr/>
            <p:nvPr/>
          </p:nvSpPr>
          <p:spPr>
            <a:xfrm>
              <a:off x="3490560" y="1892160"/>
              <a:ext cx="2160360" cy="671760"/>
            </a:xfrm>
            <a:prstGeom prst="roundRect">
              <a:avLst>
                <a:gd name="adj" fmla="val 16667"/>
              </a:avLst>
            </a:prstGeom>
            <a:solidFill>
              <a:srgbClr val="00b000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3080" rIns="73080" tIns="36720" bIns="36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É o Lem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981080" y="4797360"/>
            <a:ext cx="5183280" cy="792360"/>
            <a:chOff x="1981080" y="4797360"/>
            <a:chExt cx="5183280" cy="792360"/>
          </a:xfrm>
        </p:grpSpPr>
        <p:sp>
          <p:nvSpPr>
            <p:cNvPr id="184" name="_s50187"/>
            <p:cNvSpPr/>
            <p:nvPr/>
          </p:nvSpPr>
          <p:spPr>
            <a:xfrm>
              <a:off x="1981080" y="4797360"/>
              <a:ext cx="5183280" cy="792360"/>
            </a:xfrm>
            <a:prstGeom prst="roundRect">
              <a:avLst>
                <a:gd name="adj" fmla="val 19574"/>
              </a:avLst>
            </a:prstGeom>
            <a:solidFill>
              <a:srgbClr val="ffe701">
                <a:alpha val="25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680" rIns="468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 TODOS OS TIPOS DE FORÇA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Incorporados ao nosso conhecimento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8317080" y="5589720"/>
            <a:ext cx="79200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2º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108000" y="213840"/>
            <a:ext cx="1150560" cy="437760"/>
            <a:chOff x="108000" y="213840"/>
            <a:chExt cx="1150560" cy="437760"/>
          </a:xfrm>
        </p:grpSpPr>
        <p:cxnSp>
          <p:nvCxnSpPr>
            <p:cNvPr id="187" name="_s50209"/>
            <p:cNvCxnSpPr/>
            <p:nvPr/>
          </p:nvCxnSpPr>
          <p:spPr>
            <a:xfrm flipH="1" flipV="1" rot="5400000">
              <a:off x="439560" y="199440"/>
              <a:ext cx="55800" cy="458280"/>
            </a:xfrm>
            <a:prstGeom prst="bentConnector2">
              <a:avLst/>
            </a:prstGeom>
            <a:ln w="28440">
              <a:solidFill>
                <a:srgbClr val="66ccff"/>
              </a:solidFill>
              <a:miter/>
            </a:ln>
          </p:spPr>
        </p:cxnSp>
        <p:sp>
          <p:nvSpPr>
            <p:cNvPr id="188" name="_s50210"/>
            <p:cNvSpPr/>
            <p:nvPr/>
          </p:nvSpPr>
          <p:spPr>
            <a:xfrm>
              <a:off x="450000" y="213840"/>
              <a:ext cx="480240" cy="117000"/>
            </a:xfrm>
            <a:prstGeom prst="roundRect">
              <a:avLst>
                <a:gd name="adj" fmla="val 16667"/>
              </a:avLst>
            </a:prstGeom>
            <a:solidFill>
              <a:srgbClr val="66ccff">
                <a:alpha val="2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_s50211"/>
            <p:cNvSpPr/>
            <p:nvPr/>
          </p:nvSpPr>
          <p:spPr>
            <a:xfrm>
              <a:off x="108000" y="456480"/>
              <a:ext cx="26028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_s50212"/>
            <p:cNvSpPr/>
            <p:nvPr/>
          </p:nvSpPr>
          <p:spPr>
            <a:xfrm>
              <a:off x="390960" y="460440"/>
              <a:ext cx="2865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_s50213"/>
            <p:cNvSpPr/>
            <p:nvPr/>
          </p:nvSpPr>
          <p:spPr>
            <a:xfrm>
              <a:off x="708120" y="460440"/>
              <a:ext cx="27396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_s50214"/>
            <p:cNvSpPr/>
            <p:nvPr/>
          </p:nvSpPr>
          <p:spPr>
            <a:xfrm>
              <a:off x="1012320" y="456480"/>
              <a:ext cx="246240" cy="191160"/>
            </a:xfrm>
            <a:prstGeom prst="roundRect">
              <a:avLst>
                <a:gd name="adj" fmla="val 16667"/>
              </a:avLst>
            </a:prstGeom>
            <a:solidFill>
              <a:srgbClr val="3366cc">
                <a:alpha val="5000"/>
              </a:srgbClr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" rIns="4320" tIns="2160" bIns="2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93" name="_s50215"/>
            <p:cNvCxnSpPr/>
            <p:nvPr/>
          </p:nvCxnSpPr>
          <p:spPr>
            <a:xfrm flipV="1" rot="16200000">
              <a:off x="843120" y="170280"/>
              <a:ext cx="126360" cy="445680"/>
            </a:xfrm>
            <a:prstGeom prst="bentConnector3">
              <a:avLst>
                <a:gd name="adj1" fmla="val 43428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194" name="_s50216"/>
            <p:cNvCxnSpPr/>
            <p:nvPr/>
          </p:nvCxnSpPr>
          <p:spPr>
            <a:xfrm flipV="1" rot="16200000">
              <a:off x="695880" y="317520"/>
              <a:ext cx="129960" cy="155160"/>
            </a:xfrm>
            <a:prstGeom prst="bentConnector3">
              <a:avLst>
                <a:gd name="adj1" fmla="val 45000"/>
              </a:avLst>
            </a:prstGeom>
            <a:ln w="28440">
              <a:solidFill>
                <a:srgbClr val="66ccff"/>
              </a:solidFill>
              <a:miter/>
            </a:ln>
          </p:spPr>
        </p:cxnSp>
        <p:cxnSp>
          <p:nvCxnSpPr>
            <p:cNvPr id="195" name="_s50217"/>
            <p:cNvCxnSpPr/>
            <p:nvPr/>
          </p:nvCxnSpPr>
          <p:spPr>
            <a:xfrm flipH="1" flipV="1" rot="5400000">
              <a:off x="544680" y="316800"/>
              <a:ext cx="129960" cy="156600"/>
            </a:xfrm>
            <a:prstGeom prst="bentConnector3">
              <a:avLst>
                <a:gd name="adj1" fmla="val 44444"/>
              </a:avLst>
            </a:prstGeom>
            <a:ln w="28440">
              <a:solidFill>
                <a:srgbClr val="66ccff"/>
              </a:solidFill>
              <a:miter/>
            </a:ln>
          </p:spPr>
        </p:cxn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emph" presetID="32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67" dur="1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168" dur="1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169" dur="1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7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7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7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000"/>
                            </p:stCondLst>
                            <p:childTnLst>
                              <p:par>
                                <p:cTn id="176" nodeType="afterEffect" fill="hold" presetClass="emph" presetID="32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77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animClr clrSpc="rgb">
                                      <p:cBhvr>
                                        <p:cTn id="178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b000"/>
                                      </p:to>
                                    </p:animClr>
                                    <p:set>
                                      <p:cBhvr>
                                        <p:cTn id="179" dur="1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4T12:30:32Z</dcterms:created>
  <dc:creator>Administrador</dc:creator>
  <dc:description/>
  <dc:language>en-US</dc:language>
  <cp:lastModifiedBy>Cliente</cp:lastModifiedBy>
  <dcterms:modified xsi:type="dcterms:W3CDTF">2006-12-23T17:59:12Z</dcterms:modified>
  <cp:revision>74</cp:revision>
  <dc:subject/>
  <dc:title>Mente: espelho da vida</dc:title>
</cp:coreProperties>
</file>