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DBA-2B3F-4E73-8DFD-C5CE8DB0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529A-BD0B-4D46-8BF5-A091ADA8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42BD-C402-40AC-899E-612CDE3C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10086-C6CE-47B2-B5A1-CFC1E27E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694F-C800-4597-9684-D29134A1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19D-1BDC-441F-B3C1-CEA9D11F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B1FE-4569-4636-9846-710274FE9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1EB-D4EF-446C-9F23-5AFBE003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E52-2C17-4B07-8DB5-7874B5FD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EE1A-8CAA-4DF3-B53C-B5FCDE1A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BAFE-A0D3-4B33-9675-BE708FDB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EC1F-5230-4062-9E08-D8370CF7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8C76-72EF-4382-95A4-5FCF856BEF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view.busca.uol.com.br/imgres2.jhtm?q=gravidez&amp;imgurl=http://clinotavora.planetaclix.pt/PAI-gravidez-031.jpg&amp;imgthumb=http://re2.mm-b1.yimg.com/image/618295361&amp;imgrefurl=http://clinotavora.planetaclix.pt/PAI-gravidez-filho.htm&amp;d=100x124&amp;sz=10.8kB&amp;title=PAI-gravidez-031.jpg&amp;ref=http%3A%2F%2Fbusca.uol.com.br%2Fimagem%2Findex.html%3Fq%3Dgravidez&amp;ubs=im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view.busca.uol.com.br/imgres2.jhtm?q=gravidez&amp;imgurl=http://clinotavora.planetaclix.pt/PAI-gravidez-031.jpg&amp;imgthumb=http://re2.mm-b1.yimg.com/image/618295361&amp;imgrefurl=http://clinotavora.planetaclix.pt/PAI-gravidez-filho.htm&amp;d=100x124&amp;sz=10.8kB&amp;title=PAI-gravidez-031.jpg&amp;ref=http%3A%2F%2Fbusca.uol.com.br%2Fimagem%2Findex.html%3Fq%3Dgravidez&amp;ubs=im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iew.busca.uol.com.br/imgres2.jhtm?q=gravidez&amp;imgurl=http://clinotavora.planetaclix.pt/PAI-gravidez-031.jpg&amp;imgthumb=http://re2.mm-b1.yimg.com/image/618295361&amp;imgrefurl=http://clinotavora.planetaclix.pt/PAI-gravidez-filho.htm&amp;d=100x124&amp;sz=10.8kB&amp;title=PAI-gravidez-031.jpg&amp;ref=http%3A%2F%2Fbusca.uol.com.br%2Fimagem%2Findex.html%3Fq%3Dgravidez&amp;ubs=img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62864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4859280" y="3716280"/>
            <a:ext cx="331308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e7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Cap.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14                        Corp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 rot="20710200">
            <a:off x="2195640" y="2204640"/>
            <a:ext cx="352872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PAI-gravidez-031.jpg"/>
          <p:cNvPicPr/>
          <p:nvPr/>
        </p:nvPicPr>
        <p:blipFill>
          <a:blip r:embed="rId1"/>
          <a:stretch/>
        </p:blipFill>
        <p:spPr>
          <a:xfrm>
            <a:off x="4672080" y="2997360"/>
            <a:ext cx="979560" cy="12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24360" y="2205000"/>
            <a:ext cx="3024000" cy="2016000"/>
          </a:xfrm>
          <a:prstGeom prst="ellipse">
            <a:avLst/>
          </a:prstGeom>
          <a:solidFill>
            <a:srgbClr val="000000">
              <a:alpha val="83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24360" y="2421000"/>
            <a:ext cx="1800000" cy="1512720"/>
          </a:xfrm>
          <a:prstGeom prst="ellipse">
            <a:avLst/>
          </a:prstGeom>
          <a:solidFill>
            <a:srgbClr val="66ccff">
              <a:alpha val="34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121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Formação</a:t>
            </a:r>
            <a:br>
              <a:rPr sz="4800"/>
            </a:b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e Sustentação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2360" y="4248000"/>
            <a:ext cx="575928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O Espírito, lhe preside à                              formação e à sustentação,                                           consciente ou inconscientemente, desde a hora primeira da organização fetal...sob cuidados da                         Providência Divin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embriao_fundo.jpeg"/>
          <p:cNvPicPr/>
          <p:nvPr/>
        </p:nvPicPr>
        <p:blipFill>
          <a:blip r:embed="rId1"/>
          <a:stretch/>
        </p:blipFill>
        <p:spPr>
          <a:xfrm>
            <a:off x="5513400" y="2781360"/>
            <a:ext cx="1219320" cy="904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714920" y="2565360"/>
            <a:ext cx="1152360" cy="1297080"/>
          </a:xfrm>
          <a:prstGeom prst="ellipse">
            <a:avLst/>
          </a:prstGeom>
          <a:solidFill>
            <a:srgbClr val="9dfffd">
              <a:alpha val="27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00720" y="2996640"/>
            <a:ext cx="1584000" cy="2156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356000" y="3285360"/>
            <a:ext cx="1800360" cy="14292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788000" y="3499560"/>
            <a:ext cx="1368360" cy="7308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400" bIns="-234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"/>
                            </p:stCondLst>
                            <p:childTnLst>
                              <p:par>
                                <p:cTn id="11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1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"/>
                            </p:stCondLst>
                            <p:childTnLst>
                              <p:par>
                                <p:cTn id="15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40"/>
                            </p:stCondLst>
                            <p:childTnLst>
                              <p:par>
                                <p:cTn id="19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24360" y="2205000"/>
            <a:ext cx="3024000" cy="2016000"/>
          </a:xfrm>
          <a:prstGeom prst="ellipse">
            <a:avLst/>
          </a:prstGeom>
          <a:solidFill>
            <a:srgbClr val="460023">
              <a:alpha val="83000"/>
            </a:srgbClr>
          </a:solidFill>
          <a:ln cap="rnd" w="76320">
            <a:solidFill>
              <a:srgbClr val="66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24360" y="2421000"/>
            <a:ext cx="1800000" cy="1512720"/>
          </a:xfrm>
          <a:prstGeom prst="ellipse">
            <a:avLst/>
          </a:prstGeom>
          <a:solidFill>
            <a:srgbClr val="66ccff">
              <a:alpha val="34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121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Modelagem                              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or reflexos do passad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PAI-gravidez-0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565360"/>
            <a:ext cx="979560" cy="122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411280" y="4248000"/>
            <a:ext cx="5040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O Espírito, incorpora aos                             moldes reduzidos do próprio                               ser as células do equipamento humano, associando-as                                  à própria vida, desde                                              a vesícula germ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14920" y="2565360"/>
            <a:ext cx="1152360" cy="1297080"/>
          </a:xfrm>
          <a:prstGeom prst="ellipse">
            <a:avLst/>
          </a:prstGeom>
          <a:solidFill>
            <a:srgbClr val="9dfffd">
              <a:alpha val="27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bebe.jpg"/>
          <p:cNvPicPr/>
          <p:nvPr/>
        </p:nvPicPr>
        <p:blipFill>
          <a:blip r:embed="rId3">
            <a:lum contrast="-40000"/>
          </a:blip>
          <a:stretch/>
        </p:blipFill>
        <p:spPr>
          <a:xfrm>
            <a:off x="4427640" y="256536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V="1" rot="768600">
            <a:off x="5014440" y="2707560"/>
            <a:ext cx="863640" cy="14436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 rot="647400">
            <a:off x="4818240" y="2923920"/>
            <a:ext cx="1266480" cy="698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 rot="1158000">
            <a:off x="4839840" y="3140640"/>
            <a:ext cx="1171800" cy="698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158000">
            <a:off x="4787640" y="3357720"/>
            <a:ext cx="1171440" cy="698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 rot="1158000">
            <a:off x="4642920" y="3572280"/>
            <a:ext cx="1171800" cy="698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0"/>
                            </p:stCondLst>
                            <p:childTnLst>
                              <p:par>
                                <p:cTn id="32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"/>
                            </p:stCondLst>
                            <p:childTnLst>
                              <p:par>
                                <p:cTn id="36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40"/>
                            </p:stCondLst>
                            <p:childTnLst>
                              <p:par>
                                <p:cTn id="40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40"/>
                            </p:stCondLst>
                            <p:childTnLst>
                              <p:par>
                                <p:cTn id="44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40"/>
                            </p:stCondLst>
                            <p:childTnLst>
                              <p:par>
                                <p:cTn id="48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924360" y="2205000"/>
            <a:ext cx="3024000" cy="2016000"/>
          </a:xfrm>
          <a:prstGeom prst="ellipse">
            <a:avLst/>
          </a:prstGeom>
          <a:solidFill>
            <a:srgbClr val="460023">
              <a:alpha val="83000"/>
            </a:srgbClr>
          </a:solidFill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24360" y="2421000"/>
            <a:ext cx="1800000" cy="1512720"/>
          </a:xfrm>
          <a:prstGeom prst="ellipse">
            <a:avLst/>
          </a:prstGeom>
          <a:solidFill>
            <a:srgbClr val="66ccff">
              <a:alpha val="34000"/>
            </a:srgbClr>
          </a:soli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121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omo Ímã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PAI-gravidez-0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80000" y="2565360"/>
            <a:ext cx="979560" cy="1224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 flipV="1">
            <a:off x="4932360" y="2925720"/>
            <a:ext cx="1008000" cy="21600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5148360" y="2851920"/>
            <a:ext cx="1008000" cy="50508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3357720"/>
            <a:ext cx="1224000" cy="14256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" bIns="-2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4248000"/>
            <a:ext cx="4967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as células, em se multiplicando ao redor da matriz espiritual, como a limalha de ferro sobre o ímã,  formam, a princípio os folhetos blastodérmicos...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14920" y="2565360"/>
            <a:ext cx="1152360" cy="1297080"/>
          </a:xfrm>
          <a:prstGeom prst="ellipse">
            <a:avLst/>
          </a:prstGeom>
          <a:solidFill>
            <a:srgbClr val="9dfffd">
              <a:alpha val="27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 rot="6536400">
            <a:off x="4022640" y="2465280"/>
            <a:ext cx="1454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40"/>
                            </p:stCondLst>
                            <p:childTnLst>
                              <p:par>
                                <p:cTn id="61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"/>
                            </p:stCondLst>
                            <p:childTnLst>
                              <p:par>
                                <p:cTn id="65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40"/>
                            </p:stCondLst>
                            <p:childTnLst>
                              <p:par>
                                <p:cTn id="69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234792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24000" y="404640"/>
            <a:ext cx="612144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Plasmando                      reflexo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92360" y="4005360"/>
            <a:ext cx="698328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os bilhões de células , se ajustam aos tecidos sutis da alma, partilhando-lhes a natureza eletromagnética, lembrando uma oficina complexa, formada de bilhões de motores infinitesimais , movidos por oscilações eletromagnética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...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do sob                                                o comando da ment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96000" y="234792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PAI-gravidez-03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3280" y="2565360"/>
            <a:ext cx="9795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bebe.jpg"/>
          <p:cNvPicPr/>
          <p:nvPr/>
        </p:nvPicPr>
        <p:blipFill>
          <a:blip r:embed="rId3">
            <a:lum contrast="-40000"/>
          </a:blip>
          <a:stretch/>
        </p:blipFill>
        <p:spPr>
          <a:xfrm>
            <a:off x="2411280" y="256536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50920" y="2635200"/>
            <a:ext cx="1663920" cy="50472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05640" y="2660760"/>
            <a:ext cx="1663560" cy="50472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372200">
            <a:off x="3031920" y="2152800"/>
            <a:ext cx="3230280" cy="121104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750800">
            <a:off x="3058920" y="2433240"/>
            <a:ext cx="3230280" cy="121140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74800">
            <a:off x="2987280" y="2565360"/>
            <a:ext cx="3230640" cy="121140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4360" y="2876400"/>
            <a:ext cx="1663920" cy="50508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24360" y="3092400"/>
            <a:ext cx="1663920" cy="50472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2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2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2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66560" y="117000"/>
            <a:ext cx="597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lasmando Reflexo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408400" y="765000"/>
            <a:ext cx="5607000" cy="609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720" y="2133720"/>
            <a:ext cx="18716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o Espírito plasma no embrião os reflexos que lhe são próp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70360" y="2660760"/>
            <a:ext cx="3167280" cy="1565280"/>
          </a:xfrm>
          <a:prstGeom prst="ellipse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1372200">
            <a:off x="1834920" y="2205000"/>
            <a:ext cx="4927320" cy="421488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750800">
            <a:off x="1944360" y="2400120"/>
            <a:ext cx="4546440" cy="426060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2074800">
            <a:off x="2041560" y="2563920"/>
            <a:ext cx="4165560" cy="427968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19080">
            <a:solidFill>
              <a:srgbClr val="66ccff"/>
            </a:solidFill>
            <a:round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89440" y="2876400"/>
            <a:ext cx="3167280" cy="1565280"/>
          </a:xfrm>
          <a:prstGeom prst="ellipse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89440" y="3092400"/>
            <a:ext cx="3167280" cy="1565280"/>
          </a:xfrm>
          <a:prstGeom prst="ellipse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2120" y="4508640"/>
            <a:ext cx="1390680" cy="1368360"/>
          </a:xfrm>
          <a:prstGeom prst="star5">
            <a:avLst/>
          </a:prstGeom>
          <a:noFill/>
          <a:ln w="7632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2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2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050920" y="234792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88640"/>
            <a:ext cx="6121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flexos                                         do Passado                               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Mutilações  e doenças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4005360"/>
            <a:ext cx="6767640" cy="27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as causas (...) são guardadas na profundez de nosso campo espiritual, como sementes de agressivo espinheiro que nós mesmos acalentávamos, no obscuro terreno da culpa disfarçada e dos remorsos ocultos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6000" y="2347920"/>
            <a:ext cx="1584360" cy="1655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PAI-gravidez-031.jpg"/>
          <p:cNvPicPr/>
          <p:nvPr/>
        </p:nvPicPr>
        <p:blipFill>
          <a:blip r:embed="rId1"/>
          <a:stretch/>
        </p:blipFill>
        <p:spPr>
          <a:xfrm>
            <a:off x="6083280" y="2565360"/>
            <a:ext cx="979560" cy="1224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bebe.jpg"/>
          <p:cNvPicPr/>
          <p:nvPr/>
        </p:nvPicPr>
        <p:blipFill>
          <a:blip r:embed="rId2">
            <a:lum contrast="-40000"/>
          </a:blip>
          <a:stretch/>
        </p:blipFill>
        <p:spPr>
          <a:xfrm>
            <a:off x="2411280" y="256536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050920" y="2635200"/>
            <a:ext cx="1663920" cy="50472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05640" y="2660760"/>
            <a:ext cx="1663560" cy="504720"/>
          </a:xfrm>
          <a:prstGeom prst="ellipse">
            <a:avLst/>
          </a:prstGeom>
          <a:noFill/>
          <a:ln w="76320">
            <a:solidFill>
              <a:srgbClr val="ddec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372200">
            <a:off x="3031920" y="2152800"/>
            <a:ext cx="3230280" cy="1211040"/>
          </a:xfrm>
          <a:custGeom>
            <a:avLst/>
            <a:gdLst/>
            <a:ahLst/>
            <a:rect l="l" t="t" r="r" b="b"/>
            <a:pathLst>
              <a:path w="888" h="553">
                <a:moveTo>
                  <a:pt x="0" y="553"/>
                </a:moveTo>
                <a:cubicBezTo>
                  <a:pt x="21" y="490"/>
                  <a:pt x="5" y="528"/>
                  <a:pt x="60" y="445"/>
                </a:cubicBezTo>
                <a:cubicBezTo>
                  <a:pt x="68" y="433"/>
                  <a:pt x="84" y="409"/>
                  <a:pt x="84" y="409"/>
                </a:cubicBezTo>
                <a:cubicBezTo>
                  <a:pt x="107" y="272"/>
                  <a:pt x="73" y="353"/>
                  <a:pt x="132" y="373"/>
                </a:cubicBezTo>
                <a:cubicBezTo>
                  <a:pt x="144" y="377"/>
                  <a:pt x="156" y="365"/>
                  <a:pt x="168" y="361"/>
                </a:cubicBezTo>
                <a:cubicBezTo>
                  <a:pt x="192" y="325"/>
                  <a:pt x="204" y="289"/>
                  <a:pt x="228" y="253"/>
                </a:cubicBezTo>
                <a:cubicBezTo>
                  <a:pt x="236" y="265"/>
                  <a:pt x="238" y="284"/>
                  <a:pt x="252" y="289"/>
                </a:cubicBezTo>
                <a:cubicBezTo>
                  <a:pt x="304" y="306"/>
                  <a:pt x="333" y="227"/>
                  <a:pt x="348" y="205"/>
                </a:cubicBezTo>
                <a:cubicBezTo>
                  <a:pt x="356" y="193"/>
                  <a:pt x="372" y="189"/>
                  <a:pt x="384" y="181"/>
                </a:cubicBezTo>
                <a:cubicBezTo>
                  <a:pt x="396" y="185"/>
                  <a:pt x="411" y="184"/>
                  <a:pt x="420" y="193"/>
                </a:cubicBezTo>
                <a:cubicBezTo>
                  <a:pt x="429" y="202"/>
                  <a:pt x="421" y="223"/>
                  <a:pt x="432" y="229"/>
                </a:cubicBezTo>
                <a:cubicBezTo>
                  <a:pt x="443" y="235"/>
                  <a:pt x="457" y="223"/>
                  <a:pt x="468" y="217"/>
                </a:cubicBezTo>
                <a:cubicBezTo>
                  <a:pt x="511" y="196"/>
                  <a:pt x="538" y="160"/>
                  <a:pt x="564" y="121"/>
                </a:cubicBezTo>
                <a:cubicBezTo>
                  <a:pt x="580" y="145"/>
                  <a:pt x="596" y="217"/>
                  <a:pt x="612" y="193"/>
                </a:cubicBezTo>
                <a:cubicBezTo>
                  <a:pt x="669" y="107"/>
                  <a:pt x="640" y="141"/>
                  <a:pt x="696" y="85"/>
                </a:cubicBezTo>
                <a:cubicBezTo>
                  <a:pt x="720" y="101"/>
                  <a:pt x="752" y="157"/>
                  <a:pt x="768" y="133"/>
                </a:cubicBezTo>
                <a:cubicBezTo>
                  <a:pt x="784" y="109"/>
                  <a:pt x="792" y="77"/>
                  <a:pt x="816" y="61"/>
                </a:cubicBezTo>
                <a:cubicBezTo>
                  <a:pt x="840" y="45"/>
                  <a:pt x="888" y="13"/>
                  <a:pt x="888" y="13"/>
                </a:cubicBezTo>
                <a:cubicBezTo>
                  <a:pt x="848" y="0"/>
                  <a:pt x="839" y="1"/>
                  <a:pt x="864" y="1"/>
                </a:cubicBezTo>
              </a:path>
            </a:pathLst>
          </a:custGeom>
          <a:noFill/>
          <a:ln w="76320">
            <a:solidFill>
              <a:srgbClr val="66cc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197080" y="2706840"/>
            <a:ext cx="1440000" cy="1296720"/>
          </a:xfrm>
          <a:prstGeom prst="ellipse">
            <a:avLst/>
          </a:prstGeom>
          <a:solidFill>
            <a:srgbClr val="9dfffd">
              <a:alpha val="27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89440" y="2706840"/>
            <a:ext cx="1439640" cy="1296720"/>
          </a:xfrm>
          <a:prstGeom prst="ellipse">
            <a:avLst/>
          </a:prstGeom>
          <a:solidFill>
            <a:srgbClr val="9dfffd">
              <a:alpha val="27000"/>
            </a:srgbClr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8000" y="620280"/>
            <a:ext cx="61214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Reflexo melhorado                          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prática do bem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85080" y="189000"/>
            <a:ext cx="1150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484360" y="4006800"/>
            <a:ext cx="583272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O pensamento claro e correto, com ação edificante, interfere nas funções celulares, tanto quanto nos eventos humanos..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...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raindo amparo, luz e apoio, segundo a lei do auxíli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356000" y="3213000"/>
            <a:ext cx="3311640" cy="6984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356000" y="3283920"/>
            <a:ext cx="3311640" cy="21420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520" bIns="20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635280" y="3284640"/>
            <a:ext cx="4032360" cy="503280"/>
          </a:xfrm>
          <a:prstGeom prst="lightningBolt">
            <a:avLst/>
          </a:prstGeom>
          <a:noFill/>
          <a:ln w="936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508720" y="2204280"/>
            <a:ext cx="2448000" cy="2235240"/>
          </a:xfrm>
          <a:prstGeom prst="ellipse">
            <a:avLst/>
          </a:prstGeom>
          <a:noFill/>
          <a:ln w="38160">
            <a:solidFill>
              <a:srgbClr val="ff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5580000" y="2204280"/>
            <a:ext cx="2448000" cy="2235240"/>
          </a:xfrm>
          <a:prstGeom prst="ellipse">
            <a:avLst/>
          </a:prstGeom>
          <a:noFill/>
          <a:ln w="38160">
            <a:solidFill>
              <a:srgbClr val="ff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651640" y="2204280"/>
            <a:ext cx="2447640" cy="2235240"/>
          </a:xfrm>
          <a:prstGeom prst="ellipse">
            <a:avLst/>
          </a:prstGeom>
          <a:noFill/>
          <a:ln w="38160">
            <a:solidFill>
              <a:srgbClr val="ffcc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 rot="19815000">
            <a:off x="250920" y="604800"/>
            <a:ext cx="1574640" cy="493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ccff"/>
                </a:solidFill>
                <a:latin typeface="Arial"/>
              </a:rPr>
              <a:t>corp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cc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"/>
                            </p:stCondLst>
                            <p:childTnLst>
                              <p:par>
                                <p:cTn id="197" nodeType="afterEffect" fill="hold" presetClass="entr" presetID="27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8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"/>
                            </p:stCondLst>
                            <p:childTnLst>
                              <p:par>
                                <p:cTn id="203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1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"/>
                            </p:stCondLst>
                            <p:childTnLst>
                              <p:par>
                                <p:cTn id="207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80"/>
                            </p:stCondLst>
                            <p:childTnLst>
                              <p:par>
                                <p:cTn id="211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80"/>
                            </p:stCondLst>
                            <p:childTnLst>
                              <p:par>
                                <p:cTn id="215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1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80"/>
                            </p:stCondLst>
                            <p:childTnLst>
                              <p:par>
                                <p:cTn id="219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1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80"/>
                            </p:stCondLst>
                            <p:childTnLst>
                              <p:par>
                                <p:cTn id="223" nodeType="afterEffect" fill="hold" presetClass="entr" presetID="5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1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30:32Z</dcterms:created>
  <dc:creator>Administrador</dc:creator>
  <dc:description/>
  <dc:language>en-US</dc:language>
  <cp:lastModifiedBy>Cliente</cp:lastModifiedBy>
  <dcterms:modified xsi:type="dcterms:W3CDTF">2006-12-23T17:34:33Z</dcterms:modified>
  <cp:revision>352</cp:revision>
  <dc:subject/>
  <dc:title>Mente: espelho da vida</dc:title>
</cp:coreProperties>
</file>