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5.gif" ContentType="image/gif"/>
  <Override PartName="/ppt/media/image2.gif" ContentType="image/gif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BBD-650B-43CC-BA10-8CD94BAB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717-0899-45A9-B63A-7EA99B5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E74-DEDC-48E8-904E-256F96D0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816-5573-4BDF-8DC2-53B50A69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0D4-42D0-4113-A108-0FBDF124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EC6-DDA3-496C-99A9-39581739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1DC-ACF3-4400-BA48-9893EE00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770-5123-4CE1-BBD4-2FE1474D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CCD-31D2-46E9-BFA1-3698225A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D05-2C2E-44A5-9961-46132CF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673-5FED-4BD8-9F9F-175EF0F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F41-0FC3-45C3-A31A-A4A14B16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2538-1CAF-4C7D-A8D3-B93B6F664F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2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wm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gif"/><Relationship Id="rId3" Type="http://schemas.openxmlformats.org/officeDocument/2006/relationships/hyperlink" Target="http://www.feebleminds-gifs.com/myanistarback2.gif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3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8.gif"/><Relationship Id="rId10" Type="http://schemas.openxmlformats.org/officeDocument/2006/relationships/image" Target="../media/image22.gif"/><Relationship Id="rId11" Type="http://schemas.openxmlformats.org/officeDocument/2006/relationships/image" Target="../media/image23.gi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134136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samento e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917766" dir="20734605" blurRad="0" rotWithShape="0">
              <a:srgbClr val="ffe701">
                <a:alpha val="50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2843280" y="3573360"/>
            <a:ext cx="4824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OBJETIVO:</a:t>
            </a:r>
            <a:br>
              <a:rPr sz="2400"/>
            </a:b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Motivar  o estudo deste precioso conteúdo, assunto do dia                             neste início do 3º milêni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22760" y="1341360"/>
            <a:ext cx="113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PENSAMENTO E VIDA  </a:t>
            </a:r>
            <a:r>
              <a:rPr b="1" lang="en-US" sz="1000" spc="-1" strike="noStrike">
                <a:solidFill>
                  <a:srgbClr val="ffe701"/>
                </a:solidFill>
                <a:latin typeface="Arial"/>
              </a:rPr>
              <a:t>  . 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1989000"/>
            <a:ext cx="1152360" cy="593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fffd"/>
                </a:solidFill>
                <a:latin typeface="Arial"/>
              </a:rPr>
              <a:t>Cartil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fffd"/>
                </a:solidFill>
                <a:latin typeface="Arial"/>
              </a:rPr>
              <a:t>F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230800"/>
            <a:ext cx="45007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TO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ustração de tópicos                                                      de cada capítulo.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os 15 primeiros dos 3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5084640"/>
            <a:ext cx="446544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IONAMENTO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GRAMA                                                                        DE ESTUDOS ESPÍRITAS  DO CEF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250"/>
                            </p:stCondLst>
                            <p:childTnLst>
                              <p:par>
                                <p:cTn id="10" nodeType="after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450"/>
                            </p:stCondLst>
                            <p:childTnLst>
                              <p:par>
                                <p:cTn id="21" nodeType="afterEffect" fill="hold" presetClass="emph" presetID="36">
                                  <p:stCondLst>
                                    <p:cond delay="100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40000" y="1844640"/>
            <a:ext cx="4464000" cy="4321080"/>
          </a:xfrm>
          <a:custGeom>
            <a:avLst/>
            <a:gdLst>
              <a:gd name="textAreaLeft" fmla="*/ 2028960 w 4464000"/>
              <a:gd name="textAreaRight" fmla="*/ 2435040 w 4464000"/>
              <a:gd name="textAreaTop" fmla="*/ 1963800 h 4321080"/>
              <a:gd name="textAreaBottom" fmla="*/ 235728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15" y="10921"/>
                </a:lnTo>
                <a:lnTo>
                  <a:pt x="198" y="12861"/>
                </a:lnTo>
                <a:lnTo>
                  <a:pt x="9464" y="11183"/>
                </a:lnTo>
                <a:lnTo>
                  <a:pt x="786" y="14846"/>
                </a:lnTo>
                <a:lnTo>
                  <a:pt x="9573" y="11453"/>
                </a:lnTo>
                <a:lnTo>
                  <a:pt x="1742" y="16682"/>
                </a:lnTo>
                <a:lnTo>
                  <a:pt x="9720" y="11675"/>
                </a:lnTo>
                <a:lnTo>
                  <a:pt x="3163" y="18437"/>
                </a:lnTo>
                <a:lnTo>
                  <a:pt x="9907" y="11865"/>
                </a:lnTo>
                <a:lnTo>
                  <a:pt x="4761" y="19754"/>
                </a:lnTo>
                <a:lnTo>
                  <a:pt x="10126" y="12016"/>
                </a:lnTo>
                <a:lnTo>
                  <a:pt x="6580" y="20741"/>
                </a:lnTo>
                <a:lnTo>
                  <a:pt x="10394" y="12129"/>
                </a:lnTo>
                <a:lnTo>
                  <a:pt x="8555" y="21364"/>
                </a:lnTo>
                <a:lnTo>
                  <a:pt x="10655" y="12182"/>
                </a:lnTo>
                <a:lnTo>
                  <a:pt x="10800" y="21600"/>
                </a:lnTo>
                <a:lnTo>
                  <a:pt x="10921" y="12185"/>
                </a:lnTo>
                <a:lnTo>
                  <a:pt x="12861" y="21402"/>
                </a:lnTo>
                <a:lnTo>
                  <a:pt x="11183" y="12136"/>
                </a:lnTo>
                <a:lnTo>
                  <a:pt x="14846" y="20814"/>
                </a:lnTo>
                <a:lnTo>
                  <a:pt x="11453" y="12027"/>
                </a:lnTo>
                <a:lnTo>
                  <a:pt x="16682" y="19858"/>
                </a:lnTo>
                <a:lnTo>
                  <a:pt x="11675" y="11880"/>
                </a:lnTo>
                <a:lnTo>
                  <a:pt x="18437" y="18437"/>
                </a:lnTo>
                <a:lnTo>
                  <a:pt x="11865" y="11693"/>
                </a:lnTo>
                <a:lnTo>
                  <a:pt x="19754" y="16839"/>
                </a:lnTo>
                <a:lnTo>
                  <a:pt x="12016" y="11474"/>
                </a:lnTo>
                <a:lnTo>
                  <a:pt x="20741" y="15020"/>
                </a:lnTo>
                <a:lnTo>
                  <a:pt x="12129" y="11206"/>
                </a:lnTo>
                <a:lnTo>
                  <a:pt x="21364" y="13045"/>
                </a:lnTo>
                <a:lnTo>
                  <a:pt x="12182" y="10945"/>
                </a:lnTo>
                <a:lnTo>
                  <a:pt x="21600" y="10800"/>
                </a:lnTo>
                <a:lnTo>
                  <a:pt x="12185" y="10679"/>
                </a:lnTo>
                <a:lnTo>
                  <a:pt x="21402" y="8739"/>
                </a:lnTo>
                <a:lnTo>
                  <a:pt x="12136" y="10417"/>
                </a:lnTo>
                <a:lnTo>
                  <a:pt x="20814" y="6754"/>
                </a:lnTo>
                <a:lnTo>
                  <a:pt x="12027" y="10147"/>
                </a:lnTo>
                <a:lnTo>
                  <a:pt x="19858" y="4918"/>
                </a:lnTo>
                <a:lnTo>
                  <a:pt x="11880" y="9925"/>
                </a:lnTo>
                <a:lnTo>
                  <a:pt x="18437" y="3163"/>
                </a:lnTo>
                <a:lnTo>
                  <a:pt x="11693" y="9735"/>
                </a:lnTo>
                <a:lnTo>
                  <a:pt x="16839" y="1846"/>
                </a:lnTo>
                <a:lnTo>
                  <a:pt x="11474" y="9584"/>
                </a:lnTo>
                <a:lnTo>
                  <a:pt x="15020" y="859"/>
                </a:lnTo>
                <a:lnTo>
                  <a:pt x="11206" y="9471"/>
                </a:lnTo>
                <a:lnTo>
                  <a:pt x="13045" y="236"/>
                </a:lnTo>
                <a:lnTo>
                  <a:pt x="10945" y="9418"/>
                </a:lnTo>
                <a:lnTo>
                  <a:pt x="10800" y="0"/>
                </a:lnTo>
                <a:lnTo>
                  <a:pt x="10679" y="9415"/>
                </a:lnTo>
                <a:lnTo>
                  <a:pt x="8739" y="198"/>
                </a:lnTo>
                <a:lnTo>
                  <a:pt x="10417" y="9464"/>
                </a:lnTo>
                <a:lnTo>
                  <a:pt x="6754" y="786"/>
                </a:lnTo>
                <a:lnTo>
                  <a:pt x="10147" y="9573"/>
                </a:lnTo>
                <a:lnTo>
                  <a:pt x="4918" y="1742"/>
                </a:lnTo>
                <a:lnTo>
                  <a:pt x="9925" y="9720"/>
                </a:lnTo>
                <a:lnTo>
                  <a:pt x="3163" y="3163"/>
                </a:lnTo>
                <a:lnTo>
                  <a:pt x="9735" y="9907"/>
                </a:lnTo>
                <a:lnTo>
                  <a:pt x="1846" y="4761"/>
                </a:lnTo>
                <a:lnTo>
                  <a:pt x="9584" y="10126"/>
                </a:lnTo>
                <a:lnTo>
                  <a:pt x="859" y="6580"/>
                </a:lnTo>
                <a:lnTo>
                  <a:pt x="9471" y="10394"/>
                </a:lnTo>
                <a:lnTo>
                  <a:pt x="236" y="8555"/>
                </a:lnTo>
                <a:lnTo>
                  <a:pt x="9418" y="10655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357336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476280"/>
            <a:ext cx="58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entro de suas ondulações = O céreb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2997360"/>
            <a:ext cx="2232000" cy="21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19640" y="2709720"/>
            <a:ext cx="2232000" cy="216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1557360"/>
            <a:ext cx="4464000" cy="4321080"/>
          </a:xfrm>
          <a:custGeom>
            <a:avLst/>
            <a:gdLst>
              <a:gd name="textAreaLeft" fmla="*/ 2196000 w 4464000"/>
              <a:gd name="textAreaRight" fmla="*/ 2268000 w 4464000"/>
              <a:gd name="textAreaTop" fmla="*/ 2125800 h 4321080"/>
              <a:gd name="textAreaBottom" fmla="*/ 219528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55" y="10821"/>
                </a:lnTo>
                <a:lnTo>
                  <a:pt x="198" y="12861"/>
                </a:lnTo>
                <a:lnTo>
                  <a:pt x="10564" y="10868"/>
                </a:lnTo>
                <a:lnTo>
                  <a:pt x="786" y="14846"/>
                </a:lnTo>
                <a:lnTo>
                  <a:pt x="10583" y="10915"/>
                </a:lnTo>
                <a:lnTo>
                  <a:pt x="1742" y="16682"/>
                </a:lnTo>
                <a:lnTo>
                  <a:pt x="10609" y="10955"/>
                </a:lnTo>
                <a:lnTo>
                  <a:pt x="3163" y="18437"/>
                </a:lnTo>
                <a:lnTo>
                  <a:pt x="10642" y="10988"/>
                </a:lnTo>
                <a:lnTo>
                  <a:pt x="4761" y="19754"/>
                </a:lnTo>
                <a:lnTo>
                  <a:pt x="10681" y="11015"/>
                </a:lnTo>
                <a:lnTo>
                  <a:pt x="6580" y="20741"/>
                </a:lnTo>
                <a:lnTo>
                  <a:pt x="10728" y="11035"/>
                </a:lnTo>
                <a:lnTo>
                  <a:pt x="8555" y="21364"/>
                </a:lnTo>
                <a:lnTo>
                  <a:pt x="10774" y="11045"/>
                </a:lnTo>
                <a:lnTo>
                  <a:pt x="10800" y="21600"/>
                </a:lnTo>
                <a:lnTo>
                  <a:pt x="10821" y="11045"/>
                </a:lnTo>
                <a:lnTo>
                  <a:pt x="12861" y="21402"/>
                </a:lnTo>
                <a:lnTo>
                  <a:pt x="10868" y="11036"/>
                </a:lnTo>
                <a:lnTo>
                  <a:pt x="14846" y="20814"/>
                </a:lnTo>
                <a:lnTo>
                  <a:pt x="10915" y="11017"/>
                </a:lnTo>
                <a:lnTo>
                  <a:pt x="16682" y="19858"/>
                </a:lnTo>
                <a:lnTo>
                  <a:pt x="10955" y="10991"/>
                </a:lnTo>
                <a:lnTo>
                  <a:pt x="18437" y="18437"/>
                </a:lnTo>
                <a:lnTo>
                  <a:pt x="10988" y="10958"/>
                </a:lnTo>
                <a:lnTo>
                  <a:pt x="19754" y="16839"/>
                </a:lnTo>
                <a:lnTo>
                  <a:pt x="11015" y="10919"/>
                </a:lnTo>
                <a:lnTo>
                  <a:pt x="20741" y="15020"/>
                </a:lnTo>
                <a:lnTo>
                  <a:pt x="11035" y="10872"/>
                </a:lnTo>
                <a:lnTo>
                  <a:pt x="21364" y="13045"/>
                </a:lnTo>
                <a:lnTo>
                  <a:pt x="11045" y="10826"/>
                </a:lnTo>
                <a:lnTo>
                  <a:pt x="21600" y="10800"/>
                </a:lnTo>
                <a:lnTo>
                  <a:pt x="11045" y="10779"/>
                </a:lnTo>
                <a:lnTo>
                  <a:pt x="21402" y="8739"/>
                </a:lnTo>
                <a:lnTo>
                  <a:pt x="11036" y="10732"/>
                </a:lnTo>
                <a:lnTo>
                  <a:pt x="20814" y="6754"/>
                </a:lnTo>
                <a:lnTo>
                  <a:pt x="11017" y="10685"/>
                </a:lnTo>
                <a:lnTo>
                  <a:pt x="19858" y="4918"/>
                </a:lnTo>
                <a:lnTo>
                  <a:pt x="10991" y="10645"/>
                </a:lnTo>
                <a:lnTo>
                  <a:pt x="18437" y="3163"/>
                </a:lnTo>
                <a:lnTo>
                  <a:pt x="10958" y="10612"/>
                </a:lnTo>
                <a:lnTo>
                  <a:pt x="16839" y="1846"/>
                </a:lnTo>
                <a:lnTo>
                  <a:pt x="10919" y="10585"/>
                </a:lnTo>
                <a:lnTo>
                  <a:pt x="15020" y="859"/>
                </a:lnTo>
                <a:lnTo>
                  <a:pt x="10872" y="10565"/>
                </a:lnTo>
                <a:lnTo>
                  <a:pt x="13045" y="236"/>
                </a:lnTo>
                <a:lnTo>
                  <a:pt x="10826" y="10555"/>
                </a:lnTo>
                <a:lnTo>
                  <a:pt x="10800" y="0"/>
                </a:lnTo>
                <a:lnTo>
                  <a:pt x="10779" y="10555"/>
                </a:lnTo>
                <a:lnTo>
                  <a:pt x="8739" y="198"/>
                </a:lnTo>
                <a:lnTo>
                  <a:pt x="10732" y="10564"/>
                </a:lnTo>
                <a:lnTo>
                  <a:pt x="6754" y="786"/>
                </a:lnTo>
                <a:lnTo>
                  <a:pt x="10685" y="10583"/>
                </a:lnTo>
                <a:lnTo>
                  <a:pt x="4918" y="1742"/>
                </a:lnTo>
                <a:lnTo>
                  <a:pt x="10645" y="10609"/>
                </a:lnTo>
                <a:lnTo>
                  <a:pt x="3163" y="3163"/>
                </a:lnTo>
                <a:lnTo>
                  <a:pt x="10612" y="10642"/>
                </a:lnTo>
                <a:lnTo>
                  <a:pt x="1846" y="4761"/>
                </a:lnTo>
                <a:lnTo>
                  <a:pt x="10585" y="10681"/>
                </a:lnTo>
                <a:lnTo>
                  <a:pt x="859" y="6580"/>
                </a:lnTo>
                <a:lnTo>
                  <a:pt x="10565" y="10728"/>
                </a:lnTo>
                <a:lnTo>
                  <a:pt x="236" y="8555"/>
                </a:lnTo>
                <a:lnTo>
                  <a:pt x="10555" y="107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30720" y="4950000"/>
            <a:ext cx="62856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35280" y="2924280"/>
            <a:ext cx="1800360" cy="1800000"/>
          </a:xfrm>
          <a:custGeom>
            <a:avLst/>
            <a:gdLst>
              <a:gd name="textAreaLeft" fmla="*/ 284400 w 1800360"/>
              <a:gd name="textAreaRight" fmla="*/ 1515960 w 1800360"/>
              <a:gd name="textAreaTop" fmla="*/ 284400 h 1800000"/>
              <a:gd name="textAreaBottom" fmla="*/ 15156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47628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ra a Força do Pensamento que tudo m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30720" y="3429000"/>
            <a:ext cx="628560" cy="571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9880" y="2421000"/>
            <a:ext cx="638280" cy="190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681520" y="2205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089160" y="2205000"/>
            <a:ext cx="27648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867280" y="371628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4149720"/>
            <a:ext cx="1361880" cy="94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19280" y="907920"/>
            <a:ext cx="5904000" cy="590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3357720"/>
            <a:ext cx="865080" cy="86328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280"/>
              <a:gd name="textAreaBottom" fmla="*/ 7268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7628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Força                                      do Pensament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2724120"/>
            <a:ext cx="2376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IA  TRANSFORMA   DESTROI                         REF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A PURIFICAR  E SUBLIMA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-21600000">
                                      <p:cBhvr>
                                        <p:cTn id="18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60360" y="476280"/>
            <a:ext cx="6840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m todos                                                            os domínios do Universo                                                         vibra a influência recípro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225108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DO SE RENOVA SOB OS PRINCÍPIOS DE INTERDEPENDÊNCIA E REPERCUSSÃO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2924280"/>
            <a:ext cx="1944720" cy="18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2421000"/>
            <a:ext cx="29527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3068640"/>
            <a:ext cx="3671640" cy="32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292640"/>
            <a:ext cx="151128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421000"/>
            <a:ext cx="86508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213000"/>
            <a:ext cx="865440" cy="863640"/>
          </a:xfrm>
          <a:custGeom>
            <a:avLst/>
            <a:gdLst>
              <a:gd name="textAreaLeft" fmla="*/ 136800 w 865440"/>
              <a:gd name="textAreaRight" fmla="*/ 728640 w 86544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429264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249228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3429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4653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63640" y="189000"/>
            <a:ext cx="72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percuss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10857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REFLEXO ESBOÇA A EMOTIVIDADE                                A EMOTIVIDADE PLASMA A IDÉIA                                                   A IDÉIA DETERMINA A ATITUDE E A PALAVRA QUE COMANDAM AS AÇÕES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2924280"/>
            <a:ext cx="1944720" cy="18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2421000"/>
            <a:ext cx="29527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3068640"/>
            <a:ext cx="3671640" cy="32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4292640"/>
            <a:ext cx="151128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2421000"/>
            <a:ext cx="86508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087640" cy="790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148360" y="4221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98920" y="2565360"/>
            <a:ext cx="720720" cy="649440"/>
          </a:xfrm>
          <a:custGeom>
            <a:avLst/>
            <a:gdLst>
              <a:gd name="textAreaLeft" fmla="*/ 113760 w 720720"/>
              <a:gd name="textAreaRight" fmla="*/ 606960 w 720720"/>
              <a:gd name="textAreaTop" fmla="*/ 102600 h 649440"/>
              <a:gd name="textAreaBottom" fmla="*/ 54684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141720"/>
            <a:ext cx="1368360" cy="1295280"/>
          </a:xfrm>
          <a:custGeom>
            <a:avLst/>
            <a:gdLst>
              <a:gd name="textAreaLeft" fmla="*/ 216360 w 1368360"/>
              <a:gd name="textAreaRight" fmla="*/ 1152000 w 1368360"/>
              <a:gd name="textAreaTop" fmla="*/ 204840 h 1295280"/>
              <a:gd name="textAreaBottom" fmla="*/ 1090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11280" y="4508640"/>
            <a:ext cx="1079640" cy="1081080"/>
          </a:xfrm>
          <a:custGeom>
            <a:avLst/>
            <a:gdLst>
              <a:gd name="textAreaLeft" fmla="*/ 170640 w 1079640"/>
              <a:gd name="textAreaRight" fmla="*/ 909000 w 1079640"/>
              <a:gd name="textAreaTop" fmla="*/ 171000 h 1081080"/>
              <a:gd name="textAreaBottom" fmla="*/ 9100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3213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1085760"/>
            <a:ext cx="5688000" cy="1465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O REFLEXO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ESBOÇA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A EMOTIVIDADE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 EMOTIVIDADE PLASMA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A IDÉIA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 IDÉIA DETERMINA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A ATITUDE E A PALAVRA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QUE COMANDAM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AS AÇÕES</a:t>
            </a: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9" dur="500" fill="hold"/>
                                        <p:tgtEl>
                                          <p:spTgt spid="16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3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416"/>
                            </p:stCondLst>
                            <p:childTnLst>
                              <p:par>
                                <p:cTn id="249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366"/>
                            </p:stCondLst>
                            <p:childTnLst>
                              <p:par>
                                <p:cTn id="255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316"/>
                            </p:stCondLst>
                            <p:childTnLst>
                              <p:par>
                                <p:cTn id="261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266"/>
                            </p:stCondLst>
                            <p:childTnLst>
                              <p:par>
                                <p:cTn id="267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216"/>
                            </p:stCondLst>
                            <p:childTnLst>
                              <p:par>
                                <p:cTn id="273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516720" y="2852640"/>
            <a:ext cx="1511280" cy="2276640"/>
          </a:xfrm>
          <a:prstGeom prst="rect">
            <a:avLst/>
          </a:prstGeom>
          <a:solidFill>
            <a:srgbClr val="004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OR ESS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MAGEN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STACION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U N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URIFIC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GREDI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769600">
            <a:off x="610920" y="2558880"/>
            <a:ext cx="8273880" cy="2454480"/>
          </a:xfrm>
          <a:prstGeom prst="donut">
            <a:avLst>
              <a:gd name="adj" fmla="val 10541"/>
            </a:avLst>
          </a:prstGeom>
          <a:blipFill rotWithShape="0">
            <a:blip r:embed="rId1">
              <a:alphaModFix amt="5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189000"/>
            <a:ext cx="770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percuss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12034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IRAMOS NO MUNDO DAS IMAGENS QUE PROJETAMOS E RECEBE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4560" y="1989000"/>
            <a:ext cx="1944720" cy="180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2708280"/>
            <a:ext cx="29527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3068640"/>
            <a:ext cx="3671640" cy="32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4365720"/>
            <a:ext cx="151128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0920" y="2060640"/>
            <a:ext cx="86508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2276640"/>
            <a:ext cx="360360" cy="288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 flipH="1">
            <a:off x="6659280" y="1909800"/>
            <a:ext cx="1228680" cy="942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073 0.04375 C -0.0132 -0.02616 0.1776 -0.01574 0.19201 0.07014 C 0.2085 0.15463 0.0434 0.28125 -0.17431 0.35162 C -0.39289 0.42222 -0.58195 0.41065 -0.59705 0.32546 C -0.61355 0.24005 -0.44896 0.11389 -0.23073 0.04375 Z">
                                      <p:cBhvr>
                                        <p:cTn id="30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rot="5400000">
            <a:off x="538920" y="148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67280" y="1557360"/>
            <a:ext cx="863640" cy="11509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1773360"/>
            <a:ext cx="718920" cy="7207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718080" y="1557360"/>
            <a:ext cx="1223640" cy="1150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81280" y="333360"/>
            <a:ext cx="199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lex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86360" y="622440"/>
            <a:ext cx="45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REFLEXO MENTAL MORA                                                                          NO ALICERCE DA V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924280"/>
            <a:ext cx="1944720" cy="18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421000"/>
            <a:ext cx="29527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80000" y="3068640"/>
            <a:ext cx="3671640" cy="32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4292640"/>
            <a:ext cx="151128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700280"/>
            <a:ext cx="86508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526080" y="1844640"/>
            <a:ext cx="638280" cy="190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1908000" y="1844640"/>
            <a:ext cx="628920" cy="571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197000"/>
            <a:ext cx="1584000" cy="1727280"/>
          </a:xfrm>
          <a:prstGeom prst="donut">
            <a:avLst>
              <a:gd name="adj" fmla="val 25000"/>
            </a:avLst>
          </a:prstGeom>
          <a:solidFill>
            <a:srgbClr val="3366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"/>
                            </p:stCondLst>
                            <p:childTnLst>
                              <p:par>
                                <p:cTn id="318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100"/>
                            </p:stCondLst>
                            <p:childTnLst>
                              <p:par>
                                <p:cTn id="321" nodeType="afterEffect" fill="hold" presetClass="emph" presetID="32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23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24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100"/>
                            </p:stCondLst>
                            <p:childTnLst>
                              <p:par>
                                <p:cTn id="331" nodeType="after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600"/>
                            </p:stCondLst>
                            <p:childTnLst>
                              <p:par>
                                <p:cTn id="336" nodeType="afterEffect" fill="hold" presetClass="entr" presetID="23" presetSubtype="16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41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43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100"/>
                            </p:stCondLst>
                            <p:childTnLst>
                              <p:par>
                                <p:cTn id="356" nodeType="after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400"/>
                            </p:stCondLst>
                            <p:childTnLst>
                              <p:par>
                                <p:cTn id="359" nodeType="after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6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700"/>
                            </p:stCondLst>
                            <p:childTnLst>
                              <p:par>
                                <p:cTn id="362" nodeType="after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5" nodeType="after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85840" y="3213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769600">
            <a:off x="138240" y="1252080"/>
            <a:ext cx="8448480" cy="5023080"/>
          </a:xfrm>
          <a:prstGeom prst="donut">
            <a:avLst>
              <a:gd name="adj" fmla="val 35972"/>
            </a:avLst>
          </a:prstGeom>
          <a:blipFill rotWithShape="0">
            <a:blip r:embed="rId1">
              <a:alphaModFix amt="5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141720"/>
            <a:ext cx="1908000" cy="37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76360" y="189000"/>
            <a:ext cx="237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lex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08576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TEM-SE AS CRIATURAS, RECIPROCAMENTE,                                                                                                                                         NA CRIAÇÃO                                                                                QUE REFLETE OS OBJETIVOS DO CRI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2924280"/>
            <a:ext cx="1944720" cy="18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421000"/>
            <a:ext cx="29527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4292640"/>
            <a:ext cx="151128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27640" y="2421000"/>
            <a:ext cx="86508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34200" y="1454040"/>
            <a:ext cx="1943280" cy="1687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flashing coloured stars screensa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29520" y="-15840"/>
            <a:ext cx="1942920" cy="1476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780000" y="3068640"/>
            <a:ext cx="3671640" cy="32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3716280"/>
            <a:ext cx="290520" cy="287280"/>
          </a:xfrm>
          <a:custGeom>
            <a:avLst/>
            <a:gdLst>
              <a:gd name="textAreaLeft" fmla="*/ 45720 w 290520"/>
              <a:gd name="textAreaRight" fmla="*/ 244800 w 290520"/>
              <a:gd name="textAreaTop" fmla="*/ 45360 h 287280"/>
              <a:gd name="textAreaBottom" fmla="*/ 241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2708280"/>
            <a:ext cx="290520" cy="287280"/>
          </a:xfrm>
          <a:custGeom>
            <a:avLst/>
            <a:gdLst>
              <a:gd name="textAreaLeft" fmla="*/ 45720 w 290520"/>
              <a:gd name="textAreaRight" fmla="*/ 244800 w 290520"/>
              <a:gd name="textAreaTop" fmla="*/ 45360 h 287280"/>
              <a:gd name="textAreaBottom" fmla="*/ 241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4941720"/>
            <a:ext cx="290520" cy="287640"/>
          </a:xfrm>
          <a:custGeom>
            <a:avLst/>
            <a:gdLst>
              <a:gd name="textAreaLeft" fmla="*/ 45720 w 290520"/>
              <a:gd name="textAreaRight" fmla="*/ 244800 w 290520"/>
              <a:gd name="textAreaTop" fmla="*/ 45360 h 287640"/>
              <a:gd name="textAreaBottom" fmla="*/ 24228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4508640"/>
            <a:ext cx="290520" cy="287280"/>
          </a:xfrm>
          <a:custGeom>
            <a:avLst/>
            <a:gdLst>
              <a:gd name="textAreaLeft" fmla="*/ 45720 w 290520"/>
              <a:gd name="textAreaRight" fmla="*/ 244800 w 290520"/>
              <a:gd name="textAreaTop" fmla="*/ 45360 h 287280"/>
              <a:gd name="textAreaBottom" fmla="*/ 241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411280" y="4581360"/>
            <a:ext cx="735120" cy="1285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1187280" y="3429000"/>
            <a:ext cx="990720" cy="952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284720" y="2565360"/>
            <a:ext cx="1000080" cy="552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5219640" y="4508640"/>
            <a:ext cx="847800" cy="476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3635280" y="3578400"/>
            <a:ext cx="628920" cy="571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>
            <a:lum bright="-40000"/>
          </a:blip>
          <a:stretch/>
        </p:blipFill>
        <p:spPr>
          <a:xfrm>
            <a:off x="7236000" y="4365720"/>
            <a:ext cx="1908000" cy="251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7236000" y="3141720"/>
            <a:ext cx="1944360" cy="1295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500" fill="hold"/>
                                        <p:tgtEl>
                                          <p:spTgt spid="2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5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51280" y="134136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54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 espelho da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9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917766" dir="20734605" blurRad="0" rotWithShape="0">
              <a:srgbClr val="ffe701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3722760" y="1341360"/>
            <a:ext cx="113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PENSAMENTO E VIDA  </a:t>
            </a:r>
            <a:r>
              <a:rPr b="1" lang="en-US" sz="1000" spc="-1" strike="noStrike">
                <a:solidFill>
                  <a:srgbClr val="ffe701"/>
                </a:solidFill>
                <a:latin typeface="Arial"/>
              </a:rPr>
              <a:t>  . 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1989000"/>
            <a:ext cx="1152360" cy="593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fffd"/>
                </a:solidFill>
                <a:latin typeface="Arial"/>
              </a:rPr>
              <a:t>Cartil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fffd"/>
                </a:solidFill>
                <a:latin typeface="Arial"/>
              </a:rPr>
              <a:t>F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16720" y="5732640"/>
            <a:ext cx="230508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Fi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51280" y="134136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samento e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917766" dir="20734605" blurRad="0" rotWithShape="0">
              <a:srgbClr val="ffe701">
                <a:alpha val="50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2771640" y="3573360"/>
            <a:ext cx="4824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De Emmanuel                                         por Chico Xavier.                                   É adaptação                                                          de uma “Cartilha Falada”                         disponível no Plano Espiri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22760" y="1341360"/>
            <a:ext cx="113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PENSAMENTO E VIDA  </a:t>
            </a:r>
            <a:r>
              <a:rPr b="1" lang="en-US" sz="1000" spc="-1" strike="noStrike">
                <a:solidFill>
                  <a:srgbClr val="ffe701"/>
                </a:solidFill>
                <a:latin typeface="Arial"/>
              </a:rPr>
              <a:t>  . 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5084640"/>
            <a:ext cx="4176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ff"/>
                </a:solidFill>
                <a:latin typeface="Arial"/>
              </a:rPr>
              <a:t>Confira na apresentação do liv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1989000"/>
            <a:ext cx="1152360" cy="593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fffd"/>
                </a:solidFill>
                <a:latin typeface="Arial"/>
              </a:rPr>
              <a:t>Cartil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fffd"/>
                </a:solidFill>
                <a:latin typeface="Arial"/>
              </a:rPr>
              <a:t>F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49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19262400">
            <a:off x="-324000" y="404640"/>
            <a:ext cx="2106720" cy="9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6594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O espelh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da vi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861080" y="2349360"/>
            <a:ext cx="1295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presentações figurad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rot="21591000">
            <a:off x="3492000" y="4005000"/>
            <a:ext cx="50508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194" y="859"/>
                  <a:pt x="4788" y="5080"/>
                  <a:pt x="4788" y="10800"/>
                </a:cubicBezTo>
                <a:cubicBezTo>
                  <a:pt x="4788" y="16520"/>
                  <a:pt x="13194" y="207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NT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2276640"/>
            <a:ext cx="1368720" cy="129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77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ções da 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838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71640" y="2347920"/>
            <a:ext cx="3672000" cy="352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1628640"/>
            <a:ext cx="504036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O espelho da vi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2205000"/>
            <a:ext cx="3672000" cy="352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0" y="2793960"/>
            <a:ext cx="46911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A mente é                                 o espelho                              da vida                                       em toda                                     a par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 Terra para Deus                                  sob amparo do Cristo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1916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S SERES PRIMI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1844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S ALMAS HUM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45291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S                      ESPÍRITOS APERFEIÇO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27664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2610000"/>
            <a:ext cx="4392360" cy="42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1700280"/>
            <a:ext cx="223200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990720" cy="952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1306440" cy="1822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2610000"/>
            <a:ext cx="4392360" cy="42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o se Apresent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1916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 O JUGO DOS INSTI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184464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E                           AS ILUSÕES                  DA INTELIG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227664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1700280"/>
            <a:ext cx="223200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472428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O BRILHANTE PRECIOSO RETRATANDO                         A GLÓRIA DI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990720" cy="952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1306440" cy="182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340000" y="1844640"/>
            <a:ext cx="4464000" cy="4321080"/>
          </a:xfrm>
          <a:custGeom>
            <a:avLst/>
            <a:gdLst>
              <a:gd name="textAreaLeft" fmla="*/ 684000 w 4464000"/>
              <a:gd name="textAreaRight" fmla="*/ 3780000 w 4464000"/>
              <a:gd name="textAreaTop" fmla="*/ 662040 h 4321080"/>
              <a:gd name="textAreaBottom" fmla="*/ 365904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7" y="11723"/>
                </a:lnTo>
                <a:lnTo>
                  <a:pt x="198" y="12861"/>
                </a:lnTo>
                <a:lnTo>
                  <a:pt x="617" y="13720"/>
                </a:lnTo>
                <a:lnTo>
                  <a:pt x="786" y="14846"/>
                </a:lnTo>
                <a:lnTo>
                  <a:pt x="1447" y="15773"/>
                </a:lnTo>
                <a:lnTo>
                  <a:pt x="1742" y="16682"/>
                </a:lnTo>
                <a:lnTo>
                  <a:pt x="2568" y="17466"/>
                </a:lnTo>
                <a:lnTo>
                  <a:pt x="3163" y="18437"/>
                </a:lnTo>
                <a:lnTo>
                  <a:pt x="3991" y="18915"/>
                </a:lnTo>
                <a:lnTo>
                  <a:pt x="4761" y="19754"/>
                </a:lnTo>
                <a:lnTo>
                  <a:pt x="5664" y="20065"/>
                </a:lnTo>
                <a:lnTo>
                  <a:pt x="6580" y="20741"/>
                </a:lnTo>
                <a:lnTo>
                  <a:pt x="7703" y="20930"/>
                </a:lnTo>
                <a:lnTo>
                  <a:pt x="8555" y="21364"/>
                </a:lnTo>
                <a:lnTo>
                  <a:pt x="9693" y="21335"/>
                </a:lnTo>
                <a:lnTo>
                  <a:pt x="10800" y="21600"/>
                </a:lnTo>
                <a:lnTo>
                  <a:pt x="11723" y="21353"/>
                </a:lnTo>
                <a:lnTo>
                  <a:pt x="12861" y="21402"/>
                </a:lnTo>
                <a:lnTo>
                  <a:pt x="13720" y="20983"/>
                </a:lnTo>
                <a:lnTo>
                  <a:pt x="14846" y="20814"/>
                </a:lnTo>
                <a:lnTo>
                  <a:pt x="15773" y="20153"/>
                </a:lnTo>
                <a:lnTo>
                  <a:pt x="16682" y="19858"/>
                </a:lnTo>
                <a:lnTo>
                  <a:pt x="17466" y="19032"/>
                </a:lnTo>
                <a:lnTo>
                  <a:pt x="18437" y="18437"/>
                </a:lnTo>
                <a:lnTo>
                  <a:pt x="18915" y="17609"/>
                </a:lnTo>
                <a:lnTo>
                  <a:pt x="19754" y="16839"/>
                </a:lnTo>
                <a:lnTo>
                  <a:pt x="20065" y="15936"/>
                </a:lnTo>
                <a:lnTo>
                  <a:pt x="20741" y="15020"/>
                </a:lnTo>
                <a:lnTo>
                  <a:pt x="20930" y="13897"/>
                </a:lnTo>
                <a:lnTo>
                  <a:pt x="21364" y="13045"/>
                </a:lnTo>
                <a:lnTo>
                  <a:pt x="21335" y="11907"/>
                </a:lnTo>
                <a:lnTo>
                  <a:pt x="21600" y="10800"/>
                </a:lnTo>
                <a:lnTo>
                  <a:pt x="21353" y="9877"/>
                </a:lnTo>
                <a:lnTo>
                  <a:pt x="21402" y="8739"/>
                </a:lnTo>
                <a:lnTo>
                  <a:pt x="20983" y="7880"/>
                </a:lnTo>
                <a:lnTo>
                  <a:pt x="20814" y="6754"/>
                </a:lnTo>
                <a:lnTo>
                  <a:pt x="20153" y="5827"/>
                </a:lnTo>
                <a:lnTo>
                  <a:pt x="19858" y="4918"/>
                </a:lnTo>
                <a:lnTo>
                  <a:pt x="19032" y="4134"/>
                </a:lnTo>
                <a:lnTo>
                  <a:pt x="18437" y="3163"/>
                </a:lnTo>
                <a:lnTo>
                  <a:pt x="17609" y="2685"/>
                </a:lnTo>
                <a:lnTo>
                  <a:pt x="16839" y="1846"/>
                </a:lnTo>
                <a:lnTo>
                  <a:pt x="15936" y="1535"/>
                </a:lnTo>
                <a:lnTo>
                  <a:pt x="15020" y="859"/>
                </a:lnTo>
                <a:lnTo>
                  <a:pt x="13897" y="670"/>
                </a:lnTo>
                <a:lnTo>
                  <a:pt x="13045" y="236"/>
                </a:lnTo>
                <a:lnTo>
                  <a:pt x="11907" y="265"/>
                </a:lnTo>
                <a:lnTo>
                  <a:pt x="10800" y="0"/>
                </a:lnTo>
                <a:lnTo>
                  <a:pt x="9877" y="247"/>
                </a:lnTo>
                <a:lnTo>
                  <a:pt x="8739" y="198"/>
                </a:lnTo>
                <a:lnTo>
                  <a:pt x="7880" y="617"/>
                </a:lnTo>
                <a:lnTo>
                  <a:pt x="6754" y="786"/>
                </a:lnTo>
                <a:lnTo>
                  <a:pt x="5827" y="1447"/>
                </a:lnTo>
                <a:lnTo>
                  <a:pt x="4918" y="1742"/>
                </a:lnTo>
                <a:lnTo>
                  <a:pt x="4134" y="2568"/>
                </a:lnTo>
                <a:lnTo>
                  <a:pt x="3163" y="3163"/>
                </a:lnTo>
                <a:lnTo>
                  <a:pt x="2685" y="3991"/>
                </a:lnTo>
                <a:lnTo>
                  <a:pt x="1846" y="4761"/>
                </a:lnTo>
                <a:lnTo>
                  <a:pt x="1535" y="5664"/>
                </a:lnTo>
                <a:lnTo>
                  <a:pt x="859" y="6580"/>
                </a:lnTo>
                <a:lnTo>
                  <a:pt x="670" y="7703"/>
                </a:lnTo>
                <a:lnTo>
                  <a:pt x="236" y="8555"/>
                </a:lnTo>
                <a:lnTo>
                  <a:pt x="265" y="969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50000">
                <a:srgbClr val="55261c">
                  <a:alpha val="59215"/>
                </a:srgbClr>
              </a:gs>
              <a:gs pos="100000">
                <a:srgbClr val="dcebf5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3573360"/>
            <a:ext cx="865080" cy="863640"/>
          </a:xfrm>
          <a:prstGeom prst="ellipse">
            <a:avLst/>
          </a:pr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87160" y="2376000"/>
            <a:ext cx="866160" cy="648720"/>
          </a:xfrm>
          <a:prstGeom prst="line">
            <a:avLst/>
          </a:prstGeom>
          <a:ln w="5724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155736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XA EVOLUTIVA EM QUE PODEMOS OPE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00200" y="4765680"/>
            <a:ext cx="803520" cy="489960"/>
          </a:xfrm>
          <a:prstGeom prst="line">
            <a:avLst/>
          </a:prstGeom>
          <a:ln w="5724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157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HECIMENTO ADQUI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916600" y="2136240"/>
            <a:ext cx="641880" cy="541080"/>
          </a:xfrm>
          <a:prstGeom prst="line">
            <a:avLst/>
          </a:prstGeom>
          <a:ln w="5724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PO                         DA NOSSA  CONSCIÊNCIA DESPE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terpretação da M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24000" y="1844640"/>
            <a:ext cx="4753080" cy="4321080"/>
          </a:xfrm>
          <a:custGeom>
            <a:avLst/>
            <a:gdLst>
              <a:gd name="textAreaLeft" fmla="*/ 717480 w 4753080"/>
              <a:gd name="textAreaRight" fmla="*/ 4035600 w 4753080"/>
              <a:gd name="textAreaTop" fmla="*/ 652320 h 4321080"/>
              <a:gd name="textAreaBottom" fmla="*/ 366876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79" y="11729"/>
                </a:lnTo>
                <a:lnTo>
                  <a:pt x="198" y="12861"/>
                </a:lnTo>
                <a:lnTo>
                  <a:pt x="551" y="13739"/>
                </a:lnTo>
                <a:lnTo>
                  <a:pt x="786" y="14846"/>
                </a:lnTo>
                <a:lnTo>
                  <a:pt x="1386" y="15806"/>
                </a:lnTo>
                <a:lnTo>
                  <a:pt x="1742" y="16682"/>
                </a:lnTo>
                <a:lnTo>
                  <a:pt x="2514" y="17510"/>
                </a:lnTo>
                <a:lnTo>
                  <a:pt x="3163" y="18437"/>
                </a:lnTo>
                <a:lnTo>
                  <a:pt x="3947" y="18968"/>
                </a:lnTo>
                <a:lnTo>
                  <a:pt x="4761" y="19754"/>
                </a:lnTo>
                <a:lnTo>
                  <a:pt x="5631" y="20125"/>
                </a:lnTo>
                <a:lnTo>
                  <a:pt x="6580" y="20741"/>
                </a:lnTo>
                <a:lnTo>
                  <a:pt x="7683" y="20996"/>
                </a:lnTo>
                <a:lnTo>
                  <a:pt x="8555" y="21364"/>
                </a:lnTo>
                <a:lnTo>
                  <a:pt x="9686" y="21404"/>
                </a:lnTo>
                <a:lnTo>
                  <a:pt x="10800" y="21600"/>
                </a:lnTo>
                <a:lnTo>
                  <a:pt x="11729" y="21421"/>
                </a:lnTo>
                <a:lnTo>
                  <a:pt x="12861" y="21402"/>
                </a:lnTo>
                <a:lnTo>
                  <a:pt x="13739" y="21049"/>
                </a:lnTo>
                <a:lnTo>
                  <a:pt x="14846" y="20814"/>
                </a:lnTo>
                <a:lnTo>
                  <a:pt x="15806" y="20214"/>
                </a:lnTo>
                <a:lnTo>
                  <a:pt x="16682" y="19858"/>
                </a:lnTo>
                <a:lnTo>
                  <a:pt x="17510" y="19086"/>
                </a:lnTo>
                <a:lnTo>
                  <a:pt x="18437" y="18437"/>
                </a:lnTo>
                <a:lnTo>
                  <a:pt x="18968" y="17653"/>
                </a:lnTo>
                <a:lnTo>
                  <a:pt x="19754" y="16839"/>
                </a:lnTo>
                <a:lnTo>
                  <a:pt x="20125" y="15969"/>
                </a:lnTo>
                <a:lnTo>
                  <a:pt x="20741" y="15020"/>
                </a:lnTo>
                <a:lnTo>
                  <a:pt x="20996" y="13917"/>
                </a:lnTo>
                <a:lnTo>
                  <a:pt x="21364" y="13045"/>
                </a:lnTo>
                <a:lnTo>
                  <a:pt x="21404" y="11914"/>
                </a:lnTo>
                <a:lnTo>
                  <a:pt x="21600" y="10800"/>
                </a:lnTo>
                <a:lnTo>
                  <a:pt x="21421" y="9871"/>
                </a:lnTo>
                <a:lnTo>
                  <a:pt x="21402" y="8739"/>
                </a:lnTo>
                <a:lnTo>
                  <a:pt x="21049" y="7861"/>
                </a:lnTo>
                <a:lnTo>
                  <a:pt x="20814" y="6754"/>
                </a:lnTo>
                <a:lnTo>
                  <a:pt x="20214" y="5794"/>
                </a:lnTo>
                <a:lnTo>
                  <a:pt x="19858" y="4918"/>
                </a:lnTo>
                <a:lnTo>
                  <a:pt x="19086" y="4090"/>
                </a:lnTo>
                <a:lnTo>
                  <a:pt x="18437" y="3163"/>
                </a:lnTo>
                <a:lnTo>
                  <a:pt x="17653" y="2632"/>
                </a:lnTo>
                <a:lnTo>
                  <a:pt x="16839" y="1846"/>
                </a:lnTo>
                <a:lnTo>
                  <a:pt x="15969" y="1475"/>
                </a:lnTo>
                <a:lnTo>
                  <a:pt x="15020" y="859"/>
                </a:lnTo>
                <a:lnTo>
                  <a:pt x="13917" y="604"/>
                </a:lnTo>
                <a:lnTo>
                  <a:pt x="13045" y="236"/>
                </a:lnTo>
                <a:lnTo>
                  <a:pt x="11914" y="196"/>
                </a:lnTo>
                <a:lnTo>
                  <a:pt x="10800" y="0"/>
                </a:lnTo>
                <a:lnTo>
                  <a:pt x="9871" y="179"/>
                </a:lnTo>
                <a:lnTo>
                  <a:pt x="8739" y="198"/>
                </a:lnTo>
                <a:lnTo>
                  <a:pt x="7861" y="551"/>
                </a:lnTo>
                <a:lnTo>
                  <a:pt x="6754" y="786"/>
                </a:lnTo>
                <a:lnTo>
                  <a:pt x="5794" y="1386"/>
                </a:lnTo>
                <a:lnTo>
                  <a:pt x="4918" y="1742"/>
                </a:lnTo>
                <a:lnTo>
                  <a:pt x="4090" y="2514"/>
                </a:lnTo>
                <a:lnTo>
                  <a:pt x="3163" y="3163"/>
                </a:lnTo>
                <a:lnTo>
                  <a:pt x="2632" y="3947"/>
                </a:lnTo>
                <a:lnTo>
                  <a:pt x="1846" y="4761"/>
                </a:lnTo>
                <a:lnTo>
                  <a:pt x="1475" y="5631"/>
                </a:lnTo>
                <a:lnTo>
                  <a:pt x="859" y="6580"/>
                </a:lnTo>
                <a:lnTo>
                  <a:pt x="604" y="7683"/>
                </a:lnTo>
                <a:lnTo>
                  <a:pt x="236" y="8555"/>
                </a:lnTo>
                <a:lnTo>
                  <a:pt x="196" y="96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5000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3645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6280"/>
            <a:ext cx="54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ua face = O coraçã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2997360"/>
            <a:ext cx="2232000" cy="2160360"/>
          </a:xfrm>
          <a:prstGeom prst="ellipse">
            <a:avLst/>
          </a:prstGeom>
          <a:solidFill>
            <a:srgbClr val="0068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58000"/>
          </a:blip>
          <a:stretch/>
        </p:blipFill>
        <p:spPr>
          <a:xfrm>
            <a:off x="3924360" y="3429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8000" y="11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52000" y="572940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30:32Z</dcterms:created>
  <dc:creator>Administrador</dc:creator>
  <dc:description/>
  <dc:language>en-US</dc:language>
  <cp:lastModifiedBy>Cliente</cp:lastModifiedBy>
  <dcterms:modified xsi:type="dcterms:W3CDTF">2006-12-23T18:25:16Z</dcterms:modified>
  <cp:revision>65</cp:revision>
  <dc:subject/>
  <dc:title>Mente: espelho da vida</dc:title>
</cp:coreProperties>
</file>